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8.png" ContentType="image/png"/>
  <Override PartName="/ppt/media/image14.jpeg" ContentType="image/jpeg"/>
  <Override PartName="/ppt/media/image12.png" ContentType="image/pn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29F8-8E7F-4DDE-AEAD-B005CA094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This powerpoint, part of the PIVIT Toolkit for college campuses, is intended to assist in providing training and/or awareness programs on the issue of domestic violence.  Initially developed to train first responders, particularly law enforcement and security on college campuses, it can be adapted for other audiences. You may wish to add additional information to your presentation, which can be found in the PIVIT Toolkit: Law Enforcement and Security Edition Section B. What You Need to Know and Section C. Getting Started. The most updated version of this material can be found at www.fris.org, along with handouts, activities and supplemental resources found in Section D. Resources of the Toolkit.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The presenter should consider what slides are pertinent to the intended audience.  See the Facilitator’s Guide for a full list of activities and handouts.</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In working to keep the audience engaged, consider supplementing this powerpoint with additional materials.  Local rape crisis and domestic violence centers have additional resource materials and can help co-present on this topic.  Please review videos and supplemental material thoroughly before including them in your presentation and remember to cite the source, even if the only available information is the web address.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FDCD-0EA4-4296-846F-48C2AA06EDDA}"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this resource, play video: “</a:t>
            </a:r>
            <a:r>
              <a:rPr b="0" i="1" lang="en-US" sz="1200" spc="-1" strike="noStrike">
                <a:solidFill>
                  <a:srgbClr val="000000"/>
                </a:solidFill>
                <a:latin typeface="Calibri"/>
              </a:rPr>
              <a:t>Bringing Sexual Assault Offenders to Justice</a:t>
            </a:r>
            <a:r>
              <a:rPr b="0" lang="en-US" sz="1200" spc="-1" strike="noStrike">
                <a:solidFill>
                  <a:srgbClr val="000000"/>
                </a:solidFill>
                <a:latin typeface="Calibri"/>
              </a:rPr>
              <a:t>” Part 1 Realities of Sexual Assault.  See the Facilitator’s Guide for additional information on obtaining a copy of this DVD.]</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8BE1-AA25-4880-ABF8-C7DA53DEBB68}"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 and communications personnel should refrain from judging a sexual assault victim or case based solely on initial information obtained from the victim or reporting party.  Every victim responds differently depending on her/his background, personality and the circumstances of the assault.  It is impossible and inappropriate to judge the validity of the claim based only on this preliminary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line is this:  regardless of your "gut" feelings regarding a particular victim or case, </a:t>
            </a:r>
            <a:r>
              <a:rPr b="0" lang="en-US" sz="1200" spc="-1" strike="noStrike" u="sng">
                <a:solidFill>
                  <a:srgbClr val="000000"/>
                </a:solidFill>
                <a:uFillTx/>
                <a:latin typeface="Calibri"/>
              </a:rPr>
              <a:t>proper investigative procedures must be followed for every sexual assault re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1AEC-C969-46F0-9534-C01FEEA3FCB1}"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key reason for a victim’s reluctance to report or seek help following an act of sexual violence is society’s tendency to blame the victim.</a:t>
            </a:r>
            <a:r>
              <a:rPr b="1" lang="en-US" sz="1200" spc="-1" strike="noStrike">
                <a:solidFill>
                  <a:srgbClr val="000000"/>
                </a:solidFill>
                <a:latin typeface="Calibri"/>
              </a:rPr>
              <a:t>  </a:t>
            </a:r>
            <a:r>
              <a:rPr b="0" lang="en-US" sz="1200" spc="-1" strike="noStrike">
                <a:solidFill>
                  <a:srgbClr val="000000"/>
                </a:solidFill>
                <a:latin typeface="Calibri"/>
              </a:rPr>
              <a:t>Victim blaming in essence removes the responsibility for the violence from the offender and places it upon the victim.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reporting by campus sexual assault victims stems from a combination of individual, institutional and socio-cultural factor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stranger-rape myths have been largely eradicated throughout society, acquaintance rape myths have only recently begun to be challenged. Student victims of rape by someone they know fear that people will hold them responsible for their own criminal victimization – and are far less likely to report their victimization to campus or criminal authorities than victims raped by a stranger on their campu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ollege student who is the victim of sexual assault names the experience “rape,” she is often naming a classmate or friend a “rapist.” Such labeling requires a radical redefinition of their previous relationship. Avoiding this process is one reason student sexual assault victims neither name nor report the crim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ges and universities often unintentionally condone victim-blaming when they circulate materials that focus primarily on women’s responsibility to avoid sexual assault without balancing this information with prevention education targeted toward men that stresses the perpetrator’s role in the crim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sharing the slide, ask the group what are reasons they believe victims of sexual assault do not want to re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college students in parti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media has provided a easy outlet for sharing information. Students will likely begin to post things, whether it be in ‘favor’ of the victim or perpetrator, which poses additional challenges for the victim, the alleged offender, investigators, students and faculty and staff.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Additional reasons victims may not repor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ay want to protect the offender</a:t>
            </a:r>
            <a:r>
              <a:rPr b="0" lang="en-US" sz="1000" spc="-1" strike="noStrike">
                <a:solidFill>
                  <a:srgbClr val="000000"/>
                </a:solidFill>
                <a:latin typeface="Calibri"/>
              </a:rPr>
              <a:t>: The majority of offenders are known to their victim.  They could be an intimate partner, family member, co-worker, or friend.  Although they have done something terrible, the victim often wants to protect the offender.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ay not know to whom to report: </a:t>
            </a:r>
            <a:r>
              <a:rPr b="0" lang="en-US" sz="1000" spc="-1" strike="noStrike">
                <a:solidFill>
                  <a:srgbClr val="000000"/>
                </a:solidFill>
                <a:latin typeface="Calibri"/>
              </a:rPr>
              <a:t>Marginalized populations such as immigrants and those who do not speak English may not know who to report or how to go about doing s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articipation in illegal activity during assault: </a:t>
            </a:r>
            <a:r>
              <a:rPr b="0" lang="en-US" sz="1000" spc="-1" strike="noStrike">
                <a:solidFill>
                  <a:srgbClr val="000000"/>
                </a:solidFill>
                <a:latin typeface="Calibri"/>
              </a:rPr>
              <a:t>The fear of being charged with a crime can stop victims from reporting the crime.  Offenders know this and use this to their advantage by telling victims they will be punished for committing a crime if they report. There are some college campuses and communities who will not sanction/charge victims with illegal substance use (e.g., under-age drink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utstanding warrants</a:t>
            </a:r>
            <a:r>
              <a:rPr b="0" lang="en-US" sz="1000" spc="-1" strike="noStrike">
                <a:solidFill>
                  <a:srgbClr val="000000"/>
                </a:solidFill>
                <a:latin typeface="Calibri"/>
              </a:rPr>
              <a:t>: Victims who have outstanding warrants are extremely vulnerable, as they know they will be arrested if they report to law enforce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eographic isolation</a:t>
            </a:r>
            <a:r>
              <a:rPr b="0" lang="en-US" sz="1000" spc="-1" strike="noStrike">
                <a:solidFill>
                  <a:srgbClr val="000000"/>
                </a:solidFill>
                <a:latin typeface="Calibri"/>
              </a:rPr>
              <a:t>:  The inability of a victim to access transportation or communicate because of geographic isolation will likely lead to delayed reporting or lack of report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ck of anonymity</a:t>
            </a:r>
            <a:r>
              <a:rPr b="0" lang="en-US" sz="1000" spc="-1" strike="noStrike">
                <a:solidFill>
                  <a:srgbClr val="000000"/>
                </a:solidFill>
                <a:latin typeface="Calibri"/>
              </a:rPr>
              <a:t>: In small communities (and college campuses are small communities), everyone knows each other and news travels fast.  If a victim is to access services or report to police, they will often fear that the rest of the community will find out what happened to them and fear shame, embarrassment, backlash, retaliation, et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mmunity backlash</a:t>
            </a:r>
            <a:r>
              <a:rPr b="0" lang="en-US" sz="1000" spc="-1" strike="noStrike">
                <a:solidFill>
                  <a:srgbClr val="000000"/>
                </a:solidFill>
                <a:latin typeface="Calibri"/>
              </a:rPr>
              <a:t>: On some campuses, the discussion of sexuality, even in the context of sexual assault, can be considered ‘private business.’ For others, working within the criminal justice system can be seen as a betrayal.  If reporting means isolation and betrayal of one of the victim’s community, they will often choose to remain sil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ossible immigration concerns:</a:t>
            </a:r>
            <a:r>
              <a:rPr b="0" lang="en-US" sz="1000" spc="-1" strike="noStrike">
                <a:solidFill>
                  <a:srgbClr val="000000"/>
                </a:solidFill>
                <a:latin typeface="Calibri"/>
              </a:rPr>
              <a:t> Victims who are in this country without documentation are almost always fearful if they come forward they will be deporte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we open our doors to students, they will feel more comfortable and confident in reporting the crime. By providing a victim-centered approach, we can increase the likelihood of reporting and make attempts to reduce future violenc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initial victim interview will inform your plan of action.  In your preliminary interview you will ask questions to identify the suspect, establish elements of the crime, identify crime scene(s), determine needs for evidence collection, identify needs for additional resources, and follow up on any l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C70E-DEDE-41F0-9A69-2BD823B6CC3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SEX CRIME KIT HERE. If you need a kit, contact your local hospital or the State Police Crime Lab, and they may be willing to send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the need for a sex crime kit collection or a medical exam.  Remember, all cases of sexual assault, rape, sodomy, unlawful sexual penetration, sexual abuse and so on, need a medical response. Medical care is always advisable due to injuries we canno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so many sexual assaults are committed by offenders who are known to the victim, sex crime kit evidence collection, which is primarily focused on collection of biological identifying evidence, may not be the most vital component of the medical response.  Rather, trained Sexual Assault Nurse Examiners (SANE) or forensic nurses can collect an assault history and document any pain, bruising, soreness or injury without collecting physical evidence.  This information can corroborate force and/or the assault history provided by the victim and is therefore critically important to the investigation and prosec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1222-4194-48F9-A7C3-97E4414A7FD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cohol and drugs are often involved in sexual assaults as offenders target those who are vulnerable and lacking in credibility.  If you feel that drug/alcohol-facilitated sexual assault is a possibility based on the statement of the victim’s activity or the victim’s physical symptoms, you should act quickly to expedite seizure of blood and urine analysis.  Law enforcement can collect/request urine specimens without a medical professional.   </a:t>
            </a:r>
            <a:endParaRPr b="0" lang="en-US" sz="12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dite seizure of blood and urine for later analysis.</a:t>
            </a:r>
            <a:endParaRPr b="0" lang="en-US" sz="24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picion may be based on:</a:t>
            </a:r>
            <a:endParaRPr b="0" lang="en-US" sz="24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of victim</a:t>
            </a:r>
            <a:r>
              <a:rPr b="0" lang="ja-JP" sz="1200" spc="-1" strike="noStrike">
                <a:solidFill>
                  <a:srgbClr val="000000"/>
                </a:solidFill>
                <a:latin typeface="Times New Roman"/>
                <a:ea typeface="MS PGothic"/>
              </a:rPr>
              <a:t>’</a:t>
            </a:r>
            <a:r>
              <a:rPr b="0" lang="en-US" sz="1200" spc="-1" strike="noStrike">
                <a:solidFill>
                  <a:srgbClr val="000000"/>
                </a:solidFill>
                <a:latin typeface="Times New Roman"/>
                <a:ea typeface="MS PGothic"/>
              </a:rPr>
              <a:t>s activity</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of victim</a:t>
            </a:r>
            <a:r>
              <a:rPr b="0" lang="ja-JP" sz="1200" spc="-1" strike="noStrike">
                <a:solidFill>
                  <a:srgbClr val="000000"/>
                </a:solidFill>
                <a:latin typeface="Times New Roman"/>
                <a:ea typeface="MS PGothic"/>
              </a:rPr>
              <a:t>’</a:t>
            </a:r>
            <a:r>
              <a:rPr b="0" lang="en-US" sz="1200" spc="-1" strike="noStrike">
                <a:solidFill>
                  <a:srgbClr val="000000"/>
                </a:solidFill>
                <a:latin typeface="Times New Roman"/>
                <a:ea typeface="MS PGothic"/>
              </a:rPr>
              <a:t>s physical symptom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r</a:t>
            </a:r>
            <a:r>
              <a:rPr b="0" lang="ja-JP" sz="1200" spc="-1" strike="noStrike">
                <a:solidFill>
                  <a:srgbClr val="000000"/>
                </a:solidFill>
                <a:latin typeface="Times New Roman"/>
                <a:ea typeface="MS PGothic"/>
              </a:rPr>
              <a:t>’</a:t>
            </a:r>
            <a:r>
              <a:rPr b="0" lang="en-US" sz="1200" spc="-1" strike="noStrike">
                <a:solidFill>
                  <a:srgbClr val="000000"/>
                </a:solidFill>
                <a:latin typeface="Times New Roman"/>
                <a:ea typeface="MS PGothic"/>
              </a:rPr>
              <a:t>s observation of victi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F9F7-395B-4FDB-8305-BB1466231CD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0188-855F-4F63-A543-9B5042FAE2F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an interview is not to treat the victim as if she did something wro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law-enforcement officer, prosecutor or any other government official may ask or require the adult, youth or child victim of an alleged sexual offense, as set forth in the provisions of section six, article eight, chapter sixty-one of this code; section six, article twelve of said chapter; section five, article eight-d, of said chapter; and article eight-b of said chapter, or any other sexual offense as defined under state or local law, to submit to a polygraph examination or other truth-testing examination as a condition for proceeding with the investigation of the alleged offense. No law-enforcement officer, prosecutor or any other government official may refuse to proceed with an investigation, warrant, indictment, information or prosecution of the alleged offense because the alleged victim refused to submit to such an examination. </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A1DA-B88D-404D-9ABB-DF5AFFE5D99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e benefits of a coordinated response to sexu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 interviewing skills by recognizing the impact trauma has on victi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utilize proper case closure classif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trategies for overcoming challenges and strengthening investigations through collaboration and evidence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lemental resource: http://www.youtube.com/watch?v=tEg_XQsv7rc  - </a:t>
            </a:r>
            <a:r>
              <a:rPr b="1" lang="en-US" sz="1200" spc="-1" strike="noStrike">
                <a:solidFill>
                  <a:srgbClr val="000000"/>
                </a:solidFill>
                <a:latin typeface="Calibri"/>
              </a:rPr>
              <a:t>Sexual Assault Investigations Dynamics &amp;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kansas Coalition Against Sexual Assault could be used throughout the presentation. The trainer would need to view the clip and determine which sections fit within this presentation.</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68EB-9811-43DC-94F1-71BDCE2D456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ctim’s ability to think clearly and to articulate what happened may be impeded by the trauma of the assault. Persons experiencing trauma often will recall and/or disclose information over a period of time. Officers may not get a full statement the first time, especially if aspects of the assault are unclear due to shock, embarrassment, and/or if alcohol or drugs were involved. If necessary, postpone the in-depth interview. We’ll talk more later in Overcoming Challenges about why multiple interviews are important.</a:t>
            </a: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BE260-2661-4332-802E-22810250872E}"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initial victim interview will inform your plan of action.  In your preliminary interview you will ask questions to identify the suspect, establish elements of the crime, identify crime scene(s), determine needs for evidence collection, identify needs for additional resources, and follow up on any lead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initial contact with the victim, make every effort to ensure that she is as comfortable as possible.  Avoid standing over the victim during this initial contact.  Use simple terminology and avoid cop/legal jargon.  Be sensitive of your body language </a:t>
            </a:r>
            <a:r>
              <a:rPr b="0" lang="en-US" sz="1200" spc="-1" strike="noStrike" u="sng">
                <a:solidFill>
                  <a:srgbClr val="000000"/>
                </a:solidFill>
                <a:uFillTx/>
                <a:latin typeface="Calibri"/>
              </a:rPr>
              <a:t>and watch the victim’s body language for signs of distress.</a:t>
            </a:r>
            <a:r>
              <a:rPr b="0" lang="en-US" sz="1200" spc="-1" strike="noStrike">
                <a:solidFill>
                  <a:srgbClr val="000000"/>
                </a:solidFill>
                <a:latin typeface="Calibri"/>
              </a:rPr>
              <a:t>  Avoid reacting negatively to statements made by the victim.  Use the victim’s own terminology and clarify the meaning of slang terms for your report.  Consider the following quest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did the victim first tel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victim’s clothing from the assault availab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re a need for a search warra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the suspect take anything?  Did the victim leave anyth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any pictures or video before, during or after the assaul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thinking of what else may exist to corroborate the victim’s account of the assaul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preliminary interview you will determine the scope of the interview, jurisdiction of the crime, whether the assault is acute or non-acute, and examine the need for exigency with crime scene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64BA-D1EC-4E8B-B4B4-11DF1D6B0CFC}"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s are encouraged to allow a Rape Crisis Center (RCC) Advocate to remain with the victim during the interview. Working with advocates is an essential part of a victim-centered, coordinated response.  Advocates can work out of a community based non-profit, prosecutor’s office, law enforcement agency, family justice centers, healthcare facility, or other agencies.  An advocate’s job is to provide support, crisis intervention, referrals, and information including support though the criminal justice system process.  It is important to know who the advocates are in your community and the services they provide (i.e., location, hour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handouts (review): </a:t>
            </a:r>
            <a:r>
              <a:rPr b="0" lang="en-US" sz="1200" spc="-1" strike="noStrike">
                <a:solidFill>
                  <a:srgbClr val="000000"/>
                </a:solidFill>
                <a:latin typeface="Calibri"/>
              </a:rPr>
              <a:t>Lonways, Kimberly and Archambault, Joanne (2011), Advocates and Law Enforcement: Oil and Water? You can find this handout in the PIVIT Toolkit, Section D. Resources electronic file at www.fris.org, or in the Sexual Violence Investigation Training Presentation, Supplemental Resources and Handouts file if you have the electronic toolki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7370-4B4F-45D1-AD82-A407A7E60C1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dvocacy agencies receive funding from VAWA (violence against women act), which places restrictions on sharing information.  Those agencies receiving VAWA funding cannot share information (even stating that they are working with a victim) with anyone outside of their organization without a specific, time-limited release of information signed by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enforcement and other responders are encouraged to work with local advocacy agencies to provide support services to victims of sexual assault.  Contact information for the West Virginia’s rape crisis centers can be found at www.fris.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D512-BED2-43D4-A6A5-89CF9F2E6D2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irm, clarify and expand on the initial (preliminary) int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 the elements of the cr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irm the location of the cr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termine the theme of the investigation</a:t>
            </a:r>
            <a:r>
              <a:rPr b="0" lang="en-US" sz="1200" spc="-1" strike="noStrike">
                <a:solidFill>
                  <a:srgbClr val="000000"/>
                </a:solidFill>
                <a:latin typeface="Calibri"/>
              </a:rPr>
              <a:t> – what to corroborate, and likely def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e interview, good investigators will carefully examine the victim’s story for any aspect that can be corroborated.  Even if the detail is not relevant for establishing an element of the offense, anything that the victim states as a fact can be corroborated to establish the validity of the claim and bolster her cred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6F09-30F7-48EB-B33B-A74AD0191FA8}"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ll of these issues have been satisfactorily addressed and the officer knows as much as possible about the victim and case presented, it is time to focus on efforts to begin the interview.  This process begins by selecting an appropriate location and environment, determining who will be present, and initiating the interview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you ready to do an interview? Just as interviews are taxing on victims, they are for officers as well. You should have enough time set aside as it may take to complete the interview.  The officer should have a clear head before entering into a sexual assault inter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ect an appropriate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s should conduct the interview in a location where the victim will feel safe and comfort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ain the process of the int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termine who will b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lecting the appropriate location, the officer should talk with the victim privately to determine who should be included or excluded from the inter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t the Ground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conducting a multi-disciplinary interview with an advocate or prosecutor, discuss in advance who will ask questions and how to clarify during the interview.  Be sure to make the victim aware of who will be leading the interview and what the role of each individual is.  It is not recommended that law enforcement conduct interviews in coordination with SANE/medical personnel that are taking an assault history because of the potential of the SANE’s documentation of the assault history to be considered hearsay as a result of </a:t>
            </a:r>
            <a:r>
              <a:rPr b="0" i="1" lang="en-US" sz="1200" spc="-1" strike="noStrike">
                <a:solidFill>
                  <a:srgbClr val="000000"/>
                </a:solidFill>
                <a:latin typeface="Calibri"/>
              </a:rPr>
              <a:t>Crawford v. Washington</a:t>
            </a:r>
            <a:r>
              <a:rPr b="0" lang="en-US" sz="1200" spc="-1" strike="noStrike">
                <a:solidFill>
                  <a:srgbClr val="000000"/>
                </a:solidFill>
                <a:latin typeface="Calibri"/>
              </a:rPr>
              <a:t>.  The victim will also be able to speak freer with her medical provider with less people in the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ive the victim some control.  </a:t>
            </a:r>
            <a:r>
              <a:rPr b="0" lang="en-US" sz="1200" spc="-1" strike="noStrike">
                <a:solidFill>
                  <a:srgbClr val="000000"/>
                </a:solidFill>
                <a:latin typeface="Calibri"/>
              </a:rPr>
              <a:t>This can be as simple of asking her where she wants to sit or to let you know when she needs a br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32F9-C087-4AC4-BE90-C4CE37CC1D1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cilitate Comf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ognizant of your location, body position, language and demeanor.  Just like in other situations, first impressions set the tone for the remainder of the inte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knowledge the victim’s or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for officers to begin the interview by introducing themselves and acknowledging the ordeal that the victim has endured.  Although officers need to remain unbiased in their presentation, they can also relay sympathy by stating:  “I’m sorry that this happened to you.”  Or “I’m sorry that we met under these circumstances.” Asking non-invasive questions at first and showing concern for the victim's well-being may help the victim to relax and may aid in enabling the investigator to build a rapport with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low the victim to vent e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victims express emotions in an interview, it is appropriate to allow them to </a:t>
            </a:r>
            <a:r>
              <a:rPr b="0" i="1" lang="en-US" sz="1200" spc="-1" strike="noStrike">
                <a:solidFill>
                  <a:srgbClr val="000000"/>
                </a:solidFill>
                <a:latin typeface="Calibri"/>
              </a:rPr>
              <a:t>vent </a:t>
            </a:r>
            <a:r>
              <a:rPr b="0" lang="en-US" sz="1200" spc="-1" strike="noStrike">
                <a:solidFill>
                  <a:srgbClr val="000000"/>
                </a:solidFill>
                <a:latin typeface="Calibri"/>
              </a:rPr>
              <a:t>that emotion while the officer </a:t>
            </a:r>
            <a:r>
              <a:rPr b="0" i="1" lang="en-US" sz="1200" spc="-1" strike="noStrike">
                <a:solidFill>
                  <a:srgbClr val="000000"/>
                </a:solidFill>
                <a:latin typeface="Calibri"/>
              </a:rPr>
              <a:t>validates</a:t>
            </a:r>
            <a:r>
              <a:rPr b="0" lang="en-US" sz="1200" spc="-1" strike="noStrike">
                <a:solidFill>
                  <a:srgbClr val="000000"/>
                </a:solidFill>
                <a:latin typeface="Calibri"/>
              </a:rPr>
              <a:t> that these emotions are both normal and appropri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unicate empat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athy is crucial to communicate during a sexual assault interview, because it establishes rapport with the victim, facilitates cooperation and ultimately creates an environment that will yield the most information for a police investigation.  Empathy communicated from an officer in the aftermath of sexual assault can be a powerful force in assisting the victim’s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ild ra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acknowledging the victim’s ordeal and communicating empathy, the officer will have gone a long way toward building rap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e simple choices to help the victim regain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member that all crime victims experience some loss of control over their environment.  In the case of sexual assault, however, this sense of powerlessness is acute and one of the hallmark characteristics that leads to post traumatic stress disor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sen &amp; Wells, 1991; Latts &amp; Geiselman, 1991; Mills, 1989; Olsen &amp; Wells, 1991; O’Reilly, 19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victim know that it may be necessary to ask some questions in several different ways and that this does not mean you do not believe her/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7436-B439-4301-8535-999508F46A7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xplain the purpose of the police interview</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urpose of the interview is to collect information for police to determine exactly what happened.  Victims are often concerned at this point that providing a statement to police means that the offender will be arrested and put in prison. It is important to be honest about the next steps in investigation what may happen down the lin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dress questions the victim can’t answer</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course of any police interview, the victim will likely be asked some question that he or she cannot answer.  Sexual assault victims can react uniquely to this situation because they are concerned that the officer might doubt or blame them.  Explain to them that it is okay to answer, “I don’t know” or “I don’t remember” and validate their inability to answer by explaining trauma and memor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dress concerns regarding prosecu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the victim is unwilling to follow through with prosecution or unsure about whether she wants to, the officer should respond by explaining the importance of making a report and the need to respond quickly to collect the appropriate evidence while being completely respectful of the victim’s choice and knowledge that she/he knows what is best for the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fficers should never tell the victim that she should follow through with prosecution in order to prevent future similar assaults, because this puts an inappropriate burden upon the victim for the assailant’s behavior.</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7A8F-13FE-4027-B33B-5DE3070A844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 time of extreme trauma, it is often difficult to make major deci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some of those decisions be?  (telling family about the assault, cooperating in having criminal charges filed against someone who is most likely known to the victim, a possible media frenzy,  if the assault was by an employer – possibly losing his/her jo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ving the option of collecting the evidence immediately following an assault but delaying reporting, victims do not have to make the decision about criminal charges and court trials immed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enforcement officers may therefore be asked to retrieve kits months – even years – after an assault.  Even if time has passed, the trauma of the event may be triggered.  The focus of a delayed investigation should not be on why the victim delayed reporting, but on the assault and the off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est Virginia, victims of sexual assault can have a forensic medical exam conducted without reporting to law enforc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s are stored at Marshall University’s Forensic Science (MUF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no statute of limitations on sexual assault, the victim can later report the cr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s can be retrieved from MUFSC by law enforcement and then submitted to the state crime lab using </a:t>
            </a:r>
            <a:r>
              <a:rPr b="0" i="1" lang="en-US" sz="1200" spc="-1" strike="noStrike">
                <a:solidFill>
                  <a:srgbClr val="000000"/>
                </a:solidFill>
                <a:latin typeface="Calibri"/>
              </a:rPr>
              <a:t>WVSP Case Submission Form 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n retrieving a kit from MUFSC are provided at www.fris.org, under ‘Forensic Medical Exam, Not Reporting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C92D-2CF4-4EFD-AAA6-6A85D9AE29F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 touching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it is recommended  to not physically touch the victim even though this is sometimes difficult for officers who respond empathetically.  If it is necessary or is appropriate, always ask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nitor body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izens are always influenced by the appearance and demeanor of police officers, but for sexual assault victims this can be especially pronounced.  It is easy to imagine how the appearance of an officer in uniform, with full leather gear and weaponry, can be intimidating, especially with victims who are experiencing trauma.  You should also monitor the victim’s body language in order to gauge if she needs a br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Victim’s Terminology &amp; Clarify Sexual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body language, it is crucial that the officer use verbal expressions that communicate effectively with the sexual assault victim. This can be especially challenging when it comes to using sexual langua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handout for additional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gage in active list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s should demonstrate active listening at all times by maintaining eye contact and affirming and repeating stat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e reflective com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s should use reflective comments to encourage continued disclosures by the victim.   Officers should reflect back to the victim some of what she said, in summary form.  This reflecting will encourage the victim to keep talking, as long as it is conveyed in a tone that clearly expects continued narrative rather than a closed-ended response.  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  “So I had met him at a few parties, but I didn’t really know his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  “He was someone you knew cas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rify and summar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the officer is following the victim’s story, clarifications and occasional summaries can be used during pauses in the victim’s narra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rs should clarify and summarize what they have heard from a victim after she has finished telling a segment of her story.  Officers should not interrupt the victim to clarify points.  When the victim pauses after completing a segment of her narrative, the officer can use this opportunity to clarify a particular issue or summarize the events and facts in that segment.  To do this successfully, officers must make notes of their questions while list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ing Brea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victim know it is her choice and right to take a break or end the interview.  Advocates can also help to determine when a victim may need a brea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C722-3658-4743-9FF7-6D33EF4D667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hows that gender is often a factor in crimes of sexual violence: offenders are most commonly men and victims are most commonly women.  However, there are victims who are men and offenders who are women.  We recognize this and support all victims of sexual offenses. Discussions, policy, and understanding about sexual violence should reflect the variability that can exist in these crimes and should support all victims, regardless of their gender.  For ease of communication, female pronouns are commonly used when referring to victims and male pronouns when referring to offenders.  Again, this does not indicate an exclusive concern for female victims of sexual violence or imply all perpetrators are male.</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low narrative without interruption or promp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losing the trauma of sexual assault is a process that can be difficult and painful.  Allow the victim to disclose at his/her own pace without interrupting them or prompting them.  Avoid breaking the victim’s train of th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C91C-7AAA-4B78-BFFE-ABE7129A9A7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research study conducted by Fischer (1995), detectives were aware that constantly interrupting a victim or witness was a common interviewing mistake but denied that they personally did so.  Only after listening to an audiotape of their own interviewing technique did these detectives realize how often they did interrupt victims and witnesses and become motivated to correct th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stage of the interview, the officer should begin by asking the victim to describe what happened in her own words and at her own pace.  Some of the most common errors that police make when interviewing victims and other witnesses are that they interrupt too often and ask too many questions.  Not only do these errors disconcert the victim, thereby disrupting rapport, but they can also decrease the amount and accuracy of information obtained during the interview. (Fischer, 1995; also Olsen &amp; Wells, 19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40B9-BF52-4F7E-8A1F-2E1FF70781D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e open-ended pro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refore important that the first stage of the interview begin with open-ended prompts and sufficient time for the victim to tell her story in her own words and at her own pace.  The officer should avoid interrupting and ask questions only to clarify details or to prompt further narrative.  During this first stage, the officer should ask open-ended question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remember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ell me more about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you feel when that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you do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4B2A-34CF-49B9-81CC-465E6DECD1C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710C-9716-4B3B-9639-A3DB997B7D01}"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 leading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ask questions that assume facts not yet offered by the victim.  People in crisis are especially susceptible to the influence of others.  It is important that law enforcement avoid leading questions in their interviews with sexual assault victims.  For example, officers should NOT ask victims question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he use physical force to restrain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he bigger than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res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he hit you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he do that was threat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at when he raped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 asking questions that solicit yes or no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e the information given in the statement to formulate questions for more det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e cues from the victim to determine what types of questions are appropriate for the victi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sen &amp; Wells, 19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88E3-797F-48BE-A9DC-A9A8AE99C5B1}"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134809-0C5A-49A2-8EF9-2A84057BAF13}"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member the effect of trauma on mem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ctim’s disclosure is a process, not an event. It is normal for a victim to disclose in incomplete statements, narratives that are out of chronological order, and have pieces missing.  This does not mean that the victim is lying, omitting, or misrepresenting his/her story.  Trauma changes the memory path in the brain in the way that we record and retriev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a:t>
            </a:r>
            <a:r>
              <a:rPr b="0" lang="en-US" sz="1200" spc="-1" strike="noStrike" u="sng">
                <a:solidFill>
                  <a:srgbClr val="000000"/>
                </a:solidFill>
                <a:uFillTx/>
                <a:latin typeface="Calibri"/>
              </a:rPr>
              <a:t>often expect </a:t>
            </a:r>
            <a:r>
              <a:rPr b="0" lang="en-US" sz="1200" spc="-1" strike="noStrike">
                <a:solidFill>
                  <a:srgbClr val="000000"/>
                </a:solidFill>
                <a:latin typeface="Calibri"/>
              </a:rPr>
              <a:t>victims of crime to be able to </a:t>
            </a:r>
            <a:r>
              <a:rPr b="0" i="1" lang="en-US" sz="1200" spc="-1" strike="noStrike">
                <a:solidFill>
                  <a:srgbClr val="000000"/>
                </a:solidFill>
                <a:latin typeface="Calibri"/>
              </a:rPr>
              <a:t>recall what happened </a:t>
            </a:r>
            <a:r>
              <a:rPr b="0" lang="en-US" sz="1200" spc="-1" strike="noStrike">
                <a:solidFill>
                  <a:srgbClr val="000000"/>
                </a:solidFill>
                <a:latin typeface="Calibri"/>
              </a:rPr>
              <a:t>to them, </a:t>
            </a:r>
            <a:r>
              <a:rPr b="1" lang="en-US" sz="1200" spc="-1" strike="noStrike">
                <a:solidFill>
                  <a:srgbClr val="000000"/>
                </a:solidFill>
                <a:latin typeface="Calibri"/>
              </a:rPr>
              <a:t>failing to take into account </a:t>
            </a:r>
            <a:r>
              <a:rPr b="0" lang="en-US" sz="1200" spc="-1" strike="noStrike">
                <a:solidFill>
                  <a:srgbClr val="000000"/>
                </a:solidFill>
                <a:latin typeface="Calibri"/>
              </a:rPr>
              <a:t>how trauma may impact their </a:t>
            </a:r>
            <a:r>
              <a:rPr b="0" lang="en-US" sz="1200" spc="-1" strike="noStrike" u="sng">
                <a:solidFill>
                  <a:srgbClr val="000000"/>
                </a:solidFill>
                <a:uFillTx/>
                <a:latin typeface="Calibri"/>
              </a:rPr>
              <a:t>ability</a:t>
            </a:r>
            <a:r>
              <a:rPr b="0" lang="en-US" sz="1200" spc="-1" strike="noStrike">
                <a:solidFill>
                  <a:srgbClr val="000000"/>
                </a:solidFill>
                <a:latin typeface="Calibri"/>
              </a:rPr>
              <a:t> to </a:t>
            </a:r>
            <a:r>
              <a:rPr b="1" lang="en-US" sz="1200" spc="-1" strike="noStrike">
                <a:solidFill>
                  <a:srgbClr val="000000"/>
                </a:solidFill>
                <a:latin typeface="Calibri"/>
              </a:rPr>
              <a:t>traditionally recall</a:t>
            </a:r>
            <a:r>
              <a:rPr b="0" lang="en-US" sz="1200" spc="-1" strike="noStrike">
                <a:solidFill>
                  <a:srgbClr val="000000"/>
                </a:solidFill>
                <a:latin typeface="Calibri"/>
              </a:rPr>
              <a:t> what occurr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primitive brain </a:t>
            </a:r>
            <a:r>
              <a:rPr b="0" lang="en-US" sz="1200" spc="-1" strike="noStrike">
                <a:solidFill>
                  <a:srgbClr val="000000"/>
                </a:solidFill>
                <a:latin typeface="Calibri"/>
              </a:rPr>
              <a:t>generally is </a:t>
            </a:r>
            <a:r>
              <a:rPr b="0" lang="en-US" sz="1200" spc="-1" strike="noStrike" u="sng">
                <a:solidFill>
                  <a:srgbClr val="000000"/>
                </a:solidFill>
                <a:uFillTx/>
                <a:latin typeface="Calibri"/>
              </a:rPr>
              <a:t>great at recording experiential and sensory information</a:t>
            </a:r>
            <a:r>
              <a:rPr b="0" lang="en-US" sz="1200" spc="-1" strike="noStrike">
                <a:solidFill>
                  <a:srgbClr val="000000"/>
                </a:solidFill>
                <a:latin typeface="Calibri"/>
              </a:rPr>
              <a:t> but doesn’t do well in the </a:t>
            </a:r>
            <a:r>
              <a:rPr b="1" lang="en-US" sz="1200" spc="-1" strike="noStrike">
                <a:solidFill>
                  <a:srgbClr val="000000"/>
                </a:solidFill>
                <a:latin typeface="Calibri"/>
              </a:rPr>
              <a:t>types of information LE is looking for;</a:t>
            </a:r>
            <a:r>
              <a:rPr b="0" lang="en-US" sz="1200" spc="-1" strike="noStrike">
                <a:solidFill>
                  <a:srgbClr val="000000"/>
                </a:solidFill>
                <a:latin typeface="Calibri"/>
              </a:rPr>
              <a:t> who, what, when, where, why, and how.  (Russell Strand, BWJP, 201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ctims </a:t>
            </a:r>
            <a:r>
              <a:rPr b="0" i="1" lang="en-US" sz="1200" spc="-1" strike="noStrike">
                <a:solidFill>
                  <a:srgbClr val="000000"/>
                </a:solidFill>
                <a:latin typeface="Calibri"/>
              </a:rPr>
              <a:t>may not understand </a:t>
            </a:r>
            <a:r>
              <a:rPr b="1" lang="en-US" sz="1200" spc="-1" strike="noStrike">
                <a:solidFill>
                  <a:srgbClr val="000000"/>
                </a:solidFill>
                <a:latin typeface="Calibri"/>
              </a:rPr>
              <a:t>why they can’t remember </a:t>
            </a:r>
            <a:r>
              <a:rPr b="0" lang="en-US" sz="1200" spc="-1" strike="noStrike">
                <a:solidFill>
                  <a:srgbClr val="000000"/>
                </a:solidFill>
                <a:latin typeface="Calibri"/>
              </a:rPr>
              <a:t>what happened and </a:t>
            </a:r>
            <a:r>
              <a:rPr b="0" lang="en-US" sz="1200" spc="-1" strike="noStrike" u="sng">
                <a:solidFill>
                  <a:srgbClr val="000000"/>
                </a:solidFill>
                <a:uFillTx/>
                <a:latin typeface="Calibri"/>
              </a:rPr>
              <a:t>feel they must say someth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n we reassure them from the outset </a:t>
            </a:r>
            <a:r>
              <a:rPr b="0" lang="en-US" sz="1200" spc="-1" strike="noStrike">
                <a:solidFill>
                  <a:srgbClr val="000000"/>
                </a:solidFill>
                <a:latin typeface="Calibri"/>
              </a:rPr>
              <a:t>and tell them </a:t>
            </a:r>
            <a:r>
              <a:rPr b="1" lang="en-US" sz="1200" spc="-1" strike="noStrike">
                <a:solidFill>
                  <a:srgbClr val="000000"/>
                </a:solidFill>
                <a:latin typeface="Calibri"/>
              </a:rPr>
              <a:t>it’s okay if they don’t remember everything</a:t>
            </a:r>
            <a:r>
              <a:rPr b="0" lang="en-US" sz="1200" spc="-1" strike="noStrike">
                <a:solidFill>
                  <a:srgbClr val="000000"/>
                </a:solidFill>
                <a:latin typeface="Calibri"/>
              </a:rPr>
              <a:t>, and to just tell us what they remember?</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CEEE-10DD-48C2-B35E-D2CE722D2F4E}"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ain the questions throughout the int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consistent complaints that sexual assault victims have about law enforcement is that they were not provided enough information about the process of the investigation.  It is critically important that victims feel like “partners” in the process of a criminal investigation, and one of the best ways of doing this is by keeping them info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0F19-D31E-4B36-8D66-632C19B3F58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 Victim-Blaming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questions law enforcement need to ask can sound victim blaming if not phrased correctly.  It is important to always keep this in mind and screen/filter questions before you ask them if they can be interpreted as victim blam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63D2-67EC-499E-A8C9-DDF030CE90D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ED36-C434-4976-8585-D852E273553E}"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omprehensive interview, police should obtain information in a variety of areas.  If the victim does not provide this information in the first stage of the interview during her initial account of events, it should be addressed with follow-up questions in the second stage of the int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t majority of offenders are known to the victim. Anticipate reluctance on the part of the victim to share some information for many reasons:  embarrassment, a sense of betrayal by someone they know, guilt (‘If I had just not gone to that party’).  Provide continued reassurance that they are taking the right action by reporting and that rape is not the victim’s f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cribing the victim’s behavior and relationship with the su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viewer should ask the victim about her behavior and relationship with the suspect.  These questions should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ctim’s activity prior to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past relationship or contact with the su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victim and suspect initially came into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victim last had consensual sexual intercourse and with whom (this question must be prefaced by an explanation of why this information is important – to determine if there was potentially any other DNA on her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the victim first told about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witnesses with information about the assault, the suspect, or prior assa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cribing how the victim f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particularly important as it goes a long way toward explaining the victim’s choices and behavior.  If the victim did not physically resist, you will want to find out how they were feeling – did she believe that the suspect would hurt her or use fo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cribing the suspect’s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the suspect’s behavior, the interviewer should establ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suspect entered and exited the crime sc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brought anything or left anything at the sc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touched or moved any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took any pictures or vide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showed any videos or magazines to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suspect used any objects during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suspect moved or transported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made any threats to the victim, and specific languag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the suspect committed any other crimes in connection with the sexual assault (e.g., whether the suspect took or damaged anything belonging to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5762-99A5-4D8E-9ED7-5BAAD216501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Documenting the specific acts committe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Calibri"/>
              </a:rPr>
              <a:t>To determine which specific sexual acts were committed, the interviewer will need to assess whether each of the following occurre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enile-vaginal intercourse (degree of contact or penetratio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domy (anal intercours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ral copulation (cunnilingus or fellatio)</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Digital penetration of the genital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ther foreign penetration of the genital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exual contact other than penetratio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addition to determining which specific acts were committed, it is also important to document their sequence and whether any acts were repeated.  Officers will need to make sure that the information they collect will allow them to determine whether the sexual acts involved meet the elements of the offense in their stat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Describing the suspect’s sexual behavior</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ith respect to the suspect’s sexual behavior, it is also important to ask the victi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a condom was use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ype of condom used or description of packag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the condom was provided by the victim or suspec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 location of the used condo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a lubricant was use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the suspect ejaculated, and if so, where (explain that this is not an element of the offense but indicative of where evidence might be locate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the suspect wiped his genitals with a tissue, sheet or item of cloth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Establishing force or threat of forc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o establish the elements of the offense in a case of forcible sexual assault, the officer needs to document not only the details of the sexual acts but also the circumstances of force or threat of force.  Given that the majority of sexual assaults are committed by known offenders, the issue in most investigations is going to be consent rather than identity.  It is therefore crucial that officers hone in on any detail that speaks to force or threat of forc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Obtaining a description of the suspec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f the victim </a:t>
            </a:r>
            <a:r>
              <a:rPr b="0" lang="en-US" sz="600" spc="-1" strike="noStrike" u="sng">
                <a:solidFill>
                  <a:srgbClr val="000000"/>
                </a:solidFill>
                <a:uFillTx/>
                <a:latin typeface="Calibri"/>
              </a:rPr>
              <a:t>does not know the identity of her assailant</a:t>
            </a:r>
            <a:r>
              <a:rPr b="0" lang="en-US" sz="600" spc="-1" strike="noStrike">
                <a:solidFill>
                  <a:srgbClr val="000000"/>
                </a:solidFill>
                <a:latin typeface="Calibri"/>
              </a:rPr>
              <a:t>, police will need to get a detailed description.  Corroborating descriptive details specific to the assailant are particularly important for brief encounter incidents or assailants who are not known well by the victi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Establishing a modus operandi or signatur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o determine whether a modus operandi or signature pattern of behavior can be established, investigators should also asses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ther the suspect had an erection or had difficulty maintaining an erectio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y statements or words used by the suspec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y specific threats made by the suspec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y weapons or other items used by the suspec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y contact with the suspect before or after the assaul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y specific behavioral circumstances leading up to or following the assaul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F929-CD90-48C6-B33C-8CD4C533796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de by asking the victim if there is anything else she/he would like to add, or anything you forgot to ask her/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69AD-486F-4D20-9B88-5939416EC10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ain future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 the victim what the next steps are and what she/he should expect.  Don’t promise anything you can’t deliver (“We’re going to put this guy away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ress Safety Conc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he victim feels as safe as possible.   For example, it is not uncommon for offenders (or their friends) to go to the hospital to try to talk the victim out of reporting (or ask what she said).  Make the safety of the victim a consideration following the interview.  Work with advocates to create a safety plan for the victi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knowledge that disclosure is a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victim know that it is completely normal to remember more at a later date and explain to her that she should call or come in if she/he remembers anything e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tain Contact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victim know that you will be contacting her/him and approximately when to expect hear from you.  Ask for all the contact information possible to best get in touch with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Offer to assist with notification of friends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ing friends and family can be one of the most difficult tasks for a victim after an assault.  It is often the main reason victims do not report, because they do not want their friends or family to know what happened to them.  It may be because they are embarrassed, feel at fault, or fear they won’t be believed or will be blamed.  By offering to notify friends and family with the victim, you can help mitigate their trauma, built rapport, and help the victim on a healthy path of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vide written information and refer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victim has not yet had contact with an advocacy agency, give him/her their contact information.  If the victim has other needs including housing, food, etc., help to connect her/him with other agencies or someone who can help her/him to connect to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09A3-6702-4231-8B9E-48937FE49C5F}"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C7D8-C87E-4C7F-9185-4722EEC9BDE2}"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major reason for inconsistencies in the victim’s statement is the method of documentation.  For example, if the interviewer is using a tape recorder or video camera to record the interview, this must be consistent with the written report.  Many of the inconsistencies in victim statements thus arise because the interviewer failed to record the information accurately or all of the information.  Reports are critical and the most important documents in violence against women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who have out of pocket expenses (such as medical expenses) can apply for reimbursement through the WV Crime Victims Compensation Fund if they have reported the crime within 72 hours of its occurrence.  Let the victim know of the availability of that fund (which a rape crisis center can assist the victim in accessing).  Your police report may be the determining factor whether or not reimbursement is made.  Note:  the forensic medical exam (collection of the sex crime kit)  is paid for through the WV Prosecuting Attorneys Institute, but any medical expenses incurred from the assault are the responsibility of the victim and could potentially be reimbur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01AE-3395-423A-8507-648A9B06E8FE}"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ood law enforcement reports shoul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as objective as possi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written in first pers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clude all of the details of the events that are relayed by the victi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 written using the victim’s language and terminology – do not sanitize the victim’s languag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clude direct quotes from the victim; an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 include police jargon (exited, alleged, etc.).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e descriptive words when accurate (parts of the body, sexual acts, tools, objects or weapons and how they were u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pply chronological order when possi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e non-consensual language (intercourse, fondling, caressing, hugging, engaging i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void opinions and hunch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f a report is well written it will:</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sist in safety plann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duce need for victim testimony in cour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sist in obtaining protection order</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upply documentation for sentenc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e quality information to prosecutor</a:t>
            </a:r>
            <a:endParaRPr b="0" lang="en-US" sz="900" spc="-1" strike="noStrike">
              <a:solidFill>
                <a:srgbClr val="000000"/>
              </a:solidFill>
              <a:latin typeface="Calibri"/>
            </a:endParaRPr>
          </a:p>
          <a:p>
            <a:pPr lvl="1"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e key information for the victim receiving reimbursement for expenses from the WV Crime Victims Compensation Fun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You should investigative and interviewing efforts on corroborating the victim’s account of the assault.  Presume a crime has occurred unless and until the investigation proves otherwis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860D-484B-4AEF-83B5-53303F3AE5C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8EAD-B0C7-4E4B-B37C-F9E84260041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culture, when a sexual assault occurs, too often people examine the behaviors and actions of the victim, almost ignoring the presence of an offender.  Questions are asked around what the victim was wearing, how the victim was acting, about the reputation of the victim, and the victim’s background.  Based on this, the victim is vilified, making it appear to be his/her fault for the sexual assault. We challenge you to shift that focus from the victim’s behavior, to how the offender targeted the victim based on vulnerability, accessibility, and perceived lack of credibility.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BB61-869F-46B0-B1A5-40695EF98FA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 recantation is a retraction or withdrawal of a reported cr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ntations are used as an attempt to free a victim from the criminal justice system when he/she no longer wishes to particip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ntations usually occur becaus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victim’s reaction to the toll a prosecution may take on them mentally, emotionally, physically and/or financially; an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pressure from the offender and/or his supporters to drop the matter or concern for his/her well being in situations where he/she knows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C860-8A73-45EB-BE37-D249ECFA6EA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ntation is not, in and of itself, an indication of a false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enforcement officers have a duty to determine what caused the recantation, to see if the case can move forward in spite of it. Prosecutors will need to determine how to educate the judge and jury about it, and why it shouldn’t influence their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cantation must be reported to a defense attorney because it is considered actual or potential exculpatory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3A2F-1407-4421-9658-485080AAF46E}"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n 1990, the Portland Oregon police reported that of the 431 sexual assault and attempted sexual assault complaints received, 1.6% were determined to be false, compared with 2.6% of false stolen vehicle reports (Hecht-Schafran,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tine analysis of the sexual assault cases investigated by the San Diego Police Department determined the rate of false reports at 4% (Archambault,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NYC law enforcement review of 2,000 sexual assault cases only five women were found to have made up their allegations (O’Riley, 198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A0C7-135B-4CD4-9772-F421CBF5B3B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 statements often contain inconsistencies.  They may include partial truths and/or omissions – which could be due to trauma from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vestigator has the responsibility of putting together a factual account of the assault which includes an explanation of why there may be inconsist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even though a victim may have a motive to lie, it doesn’t mean that a sexual assault did not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21C1-17C7-428C-993F-645E7C0A90B2}"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unded is a method of investigative case closure which signifies a specific out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synonymous with false alleg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unded usually means no evidence was identified or disclosed or that the case was investigated and found to be baseless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ould investigate a case and not be able to prove or disprove what happened.   That would be ‘unfounded’ – not a ‘false alle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different reactions of a victim learning her case was determined to a false allegation vs. unfou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3556-8E4E-405A-B7A5-7DC6BC43F10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unded cases include: false allegations, recantation, allegations that lack corroborating evidence, allegations that cannot be proved, or cases where all of the elements of the crime may not have been m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ile the “category” of unfounded cases may include false allegations and recantation, the “categories” of false allegations and recantation does not include unfounded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9EAA-395B-48E7-A859-474E762705E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s mentioned, the percent of false reports is likely between 2-8%. Again, no more than other felonies.</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2D91-7A77-4171-87B3-1B9A35BAF92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is problematic?</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4EFB-A622-407C-A55B-DDE8A1301334}"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F06B32-FE58-44A1-9E47-245194C5AD24}"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hallenge you to be victim-centered and offender-focused and recognize that victims react to the actions of the offender.  We define victim-centered as giving time and consideration to the victim’s needs, wishes and concerns throughout the medical, advocacy, and criminal justice response.  We define offender-focused as focusing the attention of the investigation on the actions and behaviors of the suspect.  By being victim-centered, you will build a stronger victim, and thus a stronger c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ims react to the Actions of the offender – focus on the offenders actions…this will explain the victims reaction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handout (review): </a:t>
            </a:r>
            <a:r>
              <a:rPr b="0" lang="en-US" sz="1200" spc="-1" strike="noStrike">
                <a:solidFill>
                  <a:srgbClr val="000000"/>
                </a:solidFill>
                <a:latin typeface="Calibri"/>
              </a:rPr>
              <a:t>End Violence Against Women International (2013), </a:t>
            </a:r>
            <a:r>
              <a:rPr b="0" i="1" lang="en-US" sz="1200" spc="-1" strike="noStrike">
                <a:solidFill>
                  <a:srgbClr val="000000"/>
                </a:solidFill>
                <a:latin typeface="Calibri"/>
              </a:rPr>
              <a:t>Start by Believing</a:t>
            </a:r>
            <a:r>
              <a:rPr b="0" lang="en-US" sz="1200" spc="-1" strike="noStrike">
                <a:solidFill>
                  <a:srgbClr val="000000"/>
                </a:solidFill>
                <a:latin typeface="Calibri"/>
              </a:rPr>
              <a:t> Bulletin, “You were raped? How could you be so stupid?”  Can be found in the PIVIT Toolkit, Section D. Resources at www.fris.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7F33-A1F0-458C-B3DF-9558C3F1801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on next slide</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AC6E-F12C-4BC5-BD0C-8032DD30684A}"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tty much encompasses all victims, considering victims are often targeted for their vulnerabilities, credibility and likeliness to report the crime.</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9A6B-DE40-4D69-A7BF-031578559E08}"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He can get anyone he wants. Why would he rape some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gets involved and people takes sides.  And remember, half of people usually don’t believe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often have a lack of resources.  Who is going to believe the star football quarterback is a rapist?!</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8158-F861-4B20-A795-91C1DED9E752}"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your responsibility as you work through a case is trying to determine how to overcome such challenges in order to present the case to the prosecutor and help move it through prosecution.</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B10E-4748-43D3-A996-4D89D709FB42}"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don’t always look and react how we ‘think they will or should.’  It’s our responsibility to understand the dynamics of the crime, understand victims and know how to work with them to conduct a proper and thorough investigation.  We’ll talk about these challenges more in depth.</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6CD4-C69D-4BF7-83DB-5C3E78E8A93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tim Cred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victim credibility is not only a barrier to thorough law enforcement investigations but may also influence charging decisions by prosecutors and verdicts from jury tri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01EA-EBD6-432A-A4BF-2E65515A6889}"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layed reporting, and memory problems should be expect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resistance is the excep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raumatization </a:t>
            </a:r>
            <a:r>
              <a:rPr b="0" i="1" lang="en-US" sz="1200" spc="-1" strike="noStrike">
                <a:solidFill>
                  <a:srgbClr val="000000"/>
                </a:solidFill>
                <a:latin typeface="Calibri"/>
              </a:rPr>
              <a:t>being a constant factor </a:t>
            </a:r>
            <a:r>
              <a:rPr b="0" lang="en-US" sz="1200" spc="-1" strike="noStrike">
                <a:solidFill>
                  <a:srgbClr val="000000"/>
                </a:solidFill>
                <a:latin typeface="Calibri"/>
              </a:rPr>
              <a:t>expert witnesses should be utilized to explain its significance</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5D9B-FAA6-49F9-890C-1E6D7EDB47EF}"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Why do most sexual assault victims exhibit little or no physical resistanc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Most sexual assault victims</a:t>
            </a:r>
            <a:r>
              <a:rPr b="0" lang="en-US" sz="1200" spc="-1" strike="noStrike">
                <a:solidFill>
                  <a:srgbClr val="000000"/>
                </a:solidFill>
                <a:latin typeface="Calibri"/>
              </a:rPr>
              <a:t> exhibit little or no physical resistance.  This is true for a variety of reas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may not resist, because they are too surprised or confused to do so.  They may fear resistance will anger the rapist and increase their risk of injury or de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victims do not resist because the assailant’s greater size and strength are sufficiently threatening to induce compliance, even in the absence of actual force or thr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2% of female victims of sexual assault are fearful of injury or death during the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omeone is aggressive enough to force themselves sexually on you, it is reasonable to assume they would be willing to physically injure you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may not resist because they are experiencing dissociation or frozen fright.  They may also be under the influence of drugs or alcoh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victims, most commonly female, are socialized beginning at birth to be passive and trusting.  It is important to consider the role that gender socialization has on a female victim’s reaction, or lack thereof, to an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1F36-CFAC-49C3-8AA9-855BD3FFAE9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articipants have not recently been through a sexual assault overview training, you may find it helpful to review a portion of that training, before going any further.  The first activity refers back to the discussion in the Sexual Violence Overview related to victims being targeted (i.e., for vulnerability, accessibility and perceived lack of credibility).  See be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xual assault is a crime that is planned and premeditated.  Offenders target their victims in order to be able to commit a crime and get away with it. Victims are most often selected by offenders based on the offenders’ perceptions they will be able to successfully sexually assault them, that the victims will not report or if they do, they will not be believed. Once we come to understand that victims are chosen because they are perceived as </a:t>
            </a:r>
            <a:r>
              <a:rPr b="0" lang="en-US" sz="1200" spc="-1" strike="noStrike" u="sng">
                <a:solidFill>
                  <a:srgbClr val="000000"/>
                </a:solidFill>
                <a:uFillTx/>
                <a:latin typeface="Calibri"/>
              </a:rPr>
              <a:t>vulnerable, accessible and/or lacking in credibility</a:t>
            </a:r>
            <a:r>
              <a:rPr b="0" lang="en-US" sz="1200" spc="-1" strike="noStrike">
                <a:solidFill>
                  <a:srgbClr val="000000"/>
                </a:solidFill>
                <a:latin typeface="Calibri"/>
              </a:rPr>
              <a:t>, we also know victim selection is intentional and purposeful. However, victims of sexual assault can be anyone (children, elderly, LGBTQ, people with disabilitie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1" lang="en-US" sz="1200" spc="-1" strike="noStrike">
                <a:solidFill>
                  <a:srgbClr val="000000"/>
                </a:solidFill>
                <a:latin typeface="Calibri"/>
              </a:rPr>
              <a:t>Vulnerability</a:t>
            </a:r>
            <a:r>
              <a:rPr b="0" lang="en-US" sz="1200" spc="-1" strike="noStrike">
                <a:solidFill>
                  <a:srgbClr val="000000"/>
                </a:solidFill>
                <a:latin typeface="Calibri"/>
              </a:rPr>
              <a:t> can be an actual factor or limitation that causes someone to not have the full force or volition of their mind or body  (age – such a child;  lack of knowledge or experience, a disability,  being physically weak).  It also could be perceived or tangible limitations in personal/individual options and choices. College students often want to feel accepted and will go to great lengths to do so. Incoming freshman, students with limited-English proficiency and students from low-income families may be viewed as, or made to be, easy targets for perpetr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 victim is </a:t>
            </a:r>
            <a:r>
              <a:rPr b="1" lang="en-US" sz="1200" spc="-1" strike="noStrike">
                <a:solidFill>
                  <a:srgbClr val="000000"/>
                </a:solidFill>
                <a:latin typeface="Calibri"/>
              </a:rPr>
              <a:t>accessible</a:t>
            </a:r>
            <a:r>
              <a:rPr b="0" lang="en-US" sz="1200" spc="-1" strike="noStrike">
                <a:solidFill>
                  <a:srgbClr val="000000"/>
                </a:solidFill>
                <a:latin typeface="Calibri"/>
              </a:rPr>
              <a:t> when a perpetrator perceives her or him as attainable by proximity and/or as easily approached, coerced or influenced.  In each of our lives we are accessible to any number of people whether it is at work, school, home, or social events.  Accessibility can also be created – parties, building trust by ‘showing up’ at different places (e.g., library, fitness center), offering tutoring,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n our society there are individuals who are considered trustworthy and credible, along with individuals who we are more likely to distrust and </a:t>
            </a:r>
            <a:r>
              <a:rPr b="1" lang="en-US" sz="1200" spc="-1" strike="noStrike">
                <a:solidFill>
                  <a:srgbClr val="000000"/>
                </a:solidFill>
                <a:latin typeface="Calibri"/>
              </a:rPr>
              <a:t>not consider credible</a:t>
            </a:r>
            <a:r>
              <a:rPr b="0" lang="en-US" sz="1200" spc="-1" strike="noStrike">
                <a:solidFill>
                  <a:srgbClr val="000000"/>
                </a:solidFill>
                <a:latin typeface="Calibri"/>
              </a:rPr>
              <a:t>. The environment in which we are socialized, and its norms, shape our beliefs and behaviors. They provide us with a pattern and signals from which to model “proper” behaviors. So when a victim who has been using drugs or alcohol reports that she has been raped, we often begin blaming her. “She shouldn’t have been there.” “She’s feeling regret for having sex with him.”  Victim blaming allows us to continue to feel safe. However, it also excuses the behavior of the perpetrator.  (We’ll talk more about offender-focused investigations later.) Understanding the dynamics of sexual violence, how victims are often targeted and understanding sex offenders will improve your ability to effectively respond to victims and investigate these cr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2776-62E2-40D8-BEDF-63B2CB747ADA}"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overcome credibility challenge #1, officers must carefully elicit from the victim </a:t>
            </a:r>
            <a:r>
              <a:rPr b="0" lang="en-US" sz="1200" spc="-1" strike="noStrike" u="sng">
                <a:solidFill>
                  <a:srgbClr val="000000"/>
                </a:solidFill>
                <a:uFillTx/>
                <a:latin typeface="Calibri"/>
              </a:rPr>
              <a:t>exactly</a:t>
            </a:r>
            <a:r>
              <a:rPr b="0" lang="en-US" sz="1200" spc="-1" strike="noStrike">
                <a:solidFill>
                  <a:srgbClr val="000000"/>
                </a:solidFill>
                <a:latin typeface="Calibri"/>
              </a:rPr>
              <a:t> how she responded to the situation and what she was thinking and feeling while she did so.  When doing so, it is critically important that officers use open ended questions that allow the victim to describe the experience in her own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nterviewers should never ask the victim question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fight the su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n’t you try to run or esc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scream for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like these imply to the victim that there is a correct response to rape, that she is to blame for the assault, or that you don’t believe she was assaulted.  The message is that victims of “real rape” try to run, scream, or fight their assailant.  However, for the majority of victims who demonstrate little or no physical resistance, this type of question can make them feel that they are being judged and/or that their claim is viewed with suspic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interviewers should provide the victim with open-ended promp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you do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ell me what you were thinking at tha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ell me what you were feeling when he did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ype of questioning will provide the victim with the opportunity to talk about her thoughts, feelings, and experiences during the assault.  Officers are often surprised by the information that victims provide in response to such open-ended prompts, providing details that would not have been elicited if the question had been posed differen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for the investigator is to determine what threats (implied or real) or coercive acts may have been used to force compliance.  Blocking the door, shoving her on the bed, taking her phone – these are all behaviors that could generate f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ing sensory details about what was going on around the victim, smell, taste, etc. are ess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AB12-3E4E-47EA-A6DF-84B5864D29E1}"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y are the majority of reported sexual assaults delay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mmon challenge to the credibility of sexual assault victims is that they typically do not report the crime, and if they do report, it is only after some delay.  As discussed in the dynamics section, there are myriad reasons why victims delay reporting but this typical reaction is nonetheless seen as cause for suspicion.  After all, the stereotype tells us that victims of “real rape” report the crime immediately to autho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layed reporting is also a factor that often differs between victims of stranger and non-stranger sexual assault. In non-stranger cases, victims will often delay reporting because they are afraid that no one will believe them, afraid that family members and friends will side with the offender rather than themselves, afraid for what will happen to the offender if the abuse is reported, and afraid for what will happen to their own lives after disclosing such a secr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victims also do not report their assault if it is committed by someone they know, either because they do not label it as a crime or because they have not yet had time to process the assault themsel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C1C2-3734-45C1-8A42-D78D1A7E53B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of these reasons, it is understandable that most victims of sexual assault, especially those with known offenders, will not report the crime or will only report after some delay.  To overcome this issue as a challenge to the victim’s credibility, the interviewing officer shou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the victim with open-ended prompts to elicit her thoughts and actions during and after the rape.  These thoughts and actions will often explain why the report was delayed, given the trauma of victimization and the stigma associated with disclo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 these thoughts and actions very thoroughly.  They will be used to explain to the prosecutor and jurors why the victim’s behavior was understandable and reasonable, again given the trauma of rape victimization and the stigma of disclo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sure the victim that delayed reporting is common and understandable given the circumstances of rape victim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any others with whom the victim has discussed the assault, especially the first person to whom she disclosed.  These statements, especially to the "outcry witness" (the first person told of the assault), can be critically important in both documenting the victim's behavior in the aftermath of the assault and explaining her reasons for not reporting immediately.  Examine any potential electronic messages (texts, emails, social media postings) that might substantiate that the victim had experienced trauma.  For a victim that posts and tweets hourly, the lack of the use of social media during that time could help corroborate that something had occurred to disrupt her normal behavior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when prosecutors and jurors can be made to understand the victim’s experience in its entirety from the victim’s perspective can they begin to understand responses that first appear to be unreasonable or suspicious (e.g., not physically resisting or not reporting immediately to pol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E72D-4843-4371-AF1F-0078B345E90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t>
            </a:r>
            <a:r>
              <a:rPr b="0" lang="en-US" sz="1200" spc="-1" strike="noStrike">
                <a:solidFill>
                  <a:srgbClr val="000000"/>
                </a:solidFill>
                <a:latin typeface="Calibri"/>
              </a:rPr>
              <a:t>Why would a victim make an untrue or inconsistent stateme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of these reasons, it is understandable and perhaps inevitable that victims will give information that is either inconsistent or untrue.  However, any inconsistencies or untruths are likely to destroy the victim’s credibility if not handled appropriately by police.  In the case of inconsistencies or suspected untruths, it is critically important that officers realize these inconsistencies or untruths are understandable and should not be confused with a “false” alle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officers should address inconsistencies in the victim’s statement by exploring the issue gently and non-judgmentally with the victi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inconsistency does arise, the most immediate response should be to point it out to the victim and ask her to clarify it.  It is entirely possible that the victim simply made a mistake or the officer misheard or misunderstood what the victim was saying.</a:t>
            </a:r>
            <a:r>
              <a:rPr b="0" i="1" lang="en-US" sz="1200" spc="-1" strike="noStrike">
                <a:solidFill>
                  <a:srgbClr val="000000"/>
                </a:solidFill>
                <a:latin typeface="Calibri"/>
              </a:rPr>
              <a:t> </a:t>
            </a:r>
            <a:r>
              <a:rPr b="0" lang="en-US" sz="1200" spc="-1" strike="noStrike">
                <a:solidFill>
                  <a:srgbClr val="000000"/>
                </a:solidFill>
                <a:latin typeface="Calibri"/>
              </a:rPr>
              <a:t>It is also important to fully explain to victims the impact of inconsistencies on their credibility and the police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nconsistency remains, officers can explain that conflicting information has arisen and ask for the victim’s assistance in making sense of it.  For example, an officer could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eed to ask these questions because I have to write a report on this, and I want to get every detail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nconsistency seems to result from the victim’s attempt to make her assault sound more like “real rape,” officers should address her underlying fear of being doubted or blamed.  Officers can also: Reassure the victim that her assault was serious and that she did nothing to deserve it.  Emphasize the importance of complete truthfulness and create a safe, non-judgmental environment that encourages honesty even regarding unflattering or illegal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should be reassured that they will not be arrested for illegal behavior, such as underage drinking or drug use, but only if it can be guaranteed to be true.  Departments should never arrest sexual assault victims for such behavior given the priority that must be placed on the criminal victim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nsistent statements are understandable – and even expected- in the context of a traumatic ev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7B87-F013-4645-B977-3E278F623AF6}"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illustrate, let’s turn our attention away from the topic of sexual assault to one that is perhaps more familiar to law enforcement professionals – the experience of officers involved in a critical incident. There is a wealth of research on the experiences of law enforcement professionals involved in traumatic events, documenting the negative effects of that trauma on their physical and psychological processes. As one example, these negative effects were summarized in a publications by PPCT Management Systems, Inc (1989). These effects were described as including: perceptual narrowing, loss of cognitive and motor skills, and critical incident amnesia. It is not hard to see how many of these effects would decrease the likelihood that someone would accurately perceive, store, and recall information about a traumatic ev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handout: Incomplete, Inconsistent, and Untrue Statements Made by Victims: </a:t>
            </a:r>
            <a:r>
              <a:rPr b="0" i="1" lang="en-US" sz="1200" spc="-1" strike="noStrike">
                <a:solidFill>
                  <a:srgbClr val="000000"/>
                </a:solidFill>
                <a:latin typeface="Calibri"/>
              </a:rPr>
              <a:t>Understanding the causes and overcoming the challenges </a:t>
            </a:r>
            <a:r>
              <a:rPr b="0" lang="en-US" sz="1200" spc="-1" strike="noStrike">
                <a:solidFill>
                  <a:srgbClr val="000000"/>
                </a:solidFill>
                <a:latin typeface="Calibri"/>
              </a:rPr>
              <a:t>(Archambault and Lonsway, 2008). You can find this handout in the PIVIT Toolkit, Section D. Resources electronic file at www.fris.org, or in the Sexual Violence Investigation Training Presentation, Supplemental Resources and Handout file if you have the electronic tool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C4D7-E606-435B-AD08-89D3FDCB914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ptual narrowing occurs when an individual ‘tunes into’ the input from one of the five senses and excludes the others.  Examples include “auditory exclusion” and “tunnel vision” – you don’t hear a specific sound, or lose visual processing during an event. A person’s ability to recall a traumatic event is limited when sensory input is not fully proces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mmon effect is loss of cognitive and/or motor skills. Officers who have been through a traumatic event could experience a decrease in their ability to concentrate or for rational decision-making.</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69DC-C292-46EB-BDE1-8418858AD7FB}"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is form of amnesia is temporary, considerations should be made as to the time table necessary to recover the memory, including the effects that sleep has on this process. Before the first sleep period, a person will only be able to recall general characteristics of the incident. After the first sleep period,  a person’s ability to remember will increase by 50-90%. A person’s ability to completely remember will not occur until after the second sleep period.</a:t>
            </a: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5072-7660-4C44-A579-AB44468E103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ason for potential inconsistencies in the victim's statement is the method of documentation used by the law enforcement investigator(s). Inconsistencies in the victim’s statement can certainly arise because the investigator failed to record the information accurat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ims also often provide information in a format that doesn’t correspond with the nice, neat, chronological timeline that law enforcement investigators are attempting to create. Instead, the victim may provide information in a way that feels like various “snapshots” of the event to them, perhaps leaping from some part of the sexual assault that was particularly significant to them, and then bouncing around in time from things that happened at the beginning of the event, and then the end, etc.  Obviously, this can be difficult for investigators to fo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ors will often provide the victim with prompts such as: “Then what happened?” or “What happened next?” Yet this type of chronology may not correspond to the way events are stored in the victim’s memory, so investigators who ask questions in this way may risk interrupting the victim’s narrative account and frustrating the victim’s attempts to provide information to the best of their ability. Then, if the investigator tries to write the narrative summary of the interview as if the victim had provided information in chronological order, it is likely to contain errors, gaps, inconsistencies, and other problems. Clearly, such problems can hinder the effectiveness of an investigation.</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2FCD-0460-4E48-8C4D-77AA58CD7AC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anda Brown Complaint – Victim Interviewing Exercise II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Calibri"/>
              </a:rPr>
              <a:t>You can find this handout in the PIVIT Toolkit, Section D. electronic file at www.fris.org, on in the Sexual Violence Investigation Training Presentation, Supplemental Resources and Handout file if you have the electronic toolkit.]</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723C-FC88-470E-81C9-08B9A054CAAC}"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 DNA: Critical Issues for Those Who Work with Victims (DVD) 24 min. For additional information see the Sexual Violence Investigation Training Presentation – Facilitator’s Guide in the PIVIT Toolkit, Section D.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crime scenes involved in every sexual assault case:  1) the victim, 2) the suspect and 3) the location.  Each crime scene must be thoroughly evaluated for collection and docu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2E6B-57C1-4B72-8D0D-A09BE6B7E29C}"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the Amanda Brown Complaint summary and Dynamics Exercise 1. Ask them to review the summary. They may want to take some notes.  You can find this handout in the PIVIT Toolkit, Section D. Resources electronic file at www.fris.org, or in the Sexual Violence Investigation Training Presentation, Supplemental Resources and Handout file if you have the electronic tool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 to next slide for discussion.</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3CE2-377A-427E-AC58-EB8FCA4E4DD2}"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hough the techniques we’ve already described will go a long way toward overcoming challenges to the victim’s credibility, there is nothing as powerful as physical evidence in corroborating the victim’s account of events.  For example, one study has demonstrated that sexual assault cases are approximately twice as likely to be prosecuted if a forensic medical examination was conducted with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emand for physical evidence is certainly not unique to sexual assault.  In a burglary case, evidence will be collected at the crime scene as officers attempt to document the event and identify the perpetr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xual assault case, however, </a:t>
            </a:r>
            <a:r>
              <a:rPr b="0" lang="en-US" sz="1200" spc="-1" strike="noStrike" u="sng">
                <a:solidFill>
                  <a:srgbClr val="000000"/>
                </a:solidFill>
                <a:uFillTx/>
                <a:latin typeface="Calibri"/>
              </a:rPr>
              <a:t>the victim’s body</a:t>
            </a:r>
            <a:r>
              <a:rPr b="0" lang="en-US" sz="1200" spc="-1" strike="noStrike">
                <a:solidFill>
                  <a:srgbClr val="000000"/>
                </a:solidFill>
                <a:latin typeface="Calibri"/>
              </a:rPr>
              <a:t> is the most important source of physical evidence.  The victim is, in essence “a walking and talking crime scene.”  Often, the only thing standing between an officer and another case of “he said, she said” is the evidence recovered from the victim's body during a forensic examination.  (Lindsay,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V, as of 06/2013, the window for a forensic medical exam is 96 hours. There may be cases where examiners go outside the 96 hours if evidence can still be retrieved. Examples may include: victim unsure of time frames; drug-facilitated sexual assault; victim didn’t bathe, and hostage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BDF9-9356-4C61-AD89-7FC9722D0558}"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Kits can be stored at Marshall for up to 18 months (as of 6/2013). If a victim chooses to report the assault at a later time, do the follow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hould the decision be made later to initiate an investigation in a non-reported case, the victim would need to contact law enforcement and provide the kit tracking number for law enforcement to be able to secure the sex crime evidence collection kit from MUFSC. If an investigation has not been initiated within 18 months from the time of collection, the sex crime evidence collection kit will be categorized as "non-active”. Samples collected as part of the forensic medical examination in “non-active” kits may be used for training purposes once all identifying information has been remov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fter the 18 month time period, if the “non-active” sex crime evidence collection kit has not been destroyed, the victim can still request that an investigation be initiated. There is no statute of limitations on reporting sexual assault in West Virginia.</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 </a:t>
            </a:r>
            <a:r>
              <a:rPr b="1" lang="en-US" sz="700" spc="-1" strike="noStrike">
                <a:solidFill>
                  <a:srgbClr val="000000"/>
                </a:solidFill>
                <a:latin typeface="Calibri"/>
              </a:rPr>
              <a:t>If the victim does NOT have the kit tracking number, it will be necessary for the following to happ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 The victim will need to contact the medical record department at the hospital where the forensic medical exam was completed to secure the kit tracking number for law enforcemen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O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 Law Enforcement will need to submit a written request for the sex crime evidence collection kit number on agency letterhead including the victim’s name, the officer’s name, agency, contact number and badge number to MUFSC explaining that a victi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ex. Jane Doe) wants to initiate an investigation but does not have the sex crime kit tracking number. The request should be addressed 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UFSC</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tn: Non-Report SA Kit Progra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1401 Forensic Science Driv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untington, WV 25701</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3. The contact at MUFSC will check to see if there is a sex crime kit catalogued for the identified victim. If so, MUFSC will be able to provide the sex crime kit tracking number to law enforcement. If law enforcement has additional questions about the kit, they can call MUFSC at 304-691-8959.</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4.  To directly transfer the Sex Crime Evidence Collection Kit to the WV State Police Forensic Laboratory from MUFSC via FedEx, a WVSP Case Submission Form 53 must be submitted to the WVSP Forensic Laboratory. collection ki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heck the FRIS website for updated information at www.fris.org. </a:t>
            </a:r>
            <a:endParaRPr b="0" lang="en-US" sz="7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43F1-D90B-4FEF-81ED-7E7BD2930D31}"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f you’re working on an acute case, consider how you will handle the interview/investigation if the victim chooses to go to the hospital for a forensic medical examination.  The forensic examiner/SANE will be conducting a thorough medical interview.  It may be wise to postpone an in-depth interview for a day or two with a victim who has been through this process. One primary reason is to give the victim a chance to rest and take care of personal needs (such as changing clothes, bathing, and getting something to eat) as well as allow her memory to recover somewhat from the traum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specially when a sexual assault is reported immediately, victims are likely to be exhausted after the preliminary interview and forensic medical examination.  Some may still be under the influence of drugs or alcoho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Also, recall the information about physical and cognitive impairment due to traumatic stress reviewed earlier. If the experts recommend that officers who</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ve experienced a traumatic incident should not be interviewed until after they have had one full sleep cycle, and then again after they have had a second ful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leep cycle – it makes sense that victims will need to rest before they participate in a more detailed follow-up interview as wel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In addition, most victims need some time to process what has happened. In many cases, victims who are initially unable to participate in a law enforcemen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vestigation may be able to do so after receiving support from friends, family members, and possibly even a rape crisis counselor or other victim advocat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Postponing the follow-up interview also allows the victim to make any necessary arrangements, such as transportation or child care. An advocate can also arrang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o be available at that time, to accompany the victim and provide emotional support during the follow-up interview.</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et’s look at the differences between an investigative interview and medical interview.</a:t>
            </a:r>
            <a:endParaRPr b="0" lang="en-US" sz="6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9D3C-822E-4F0E-8799-A3ACD80CE0A4}"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information about what sexual acts were committed to perform a comprehensive medical forensic examination and to collect biological evidence s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information about physical injuries to document use of physical force and for medical examination and treatment purposes; and determine whether the medical forensic findings are consistent with the history, and to provide this information to law enforcement offi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2F34-8A52-436F-8C09-57F44FE11B5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NA evidence (identific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use of DNA evidence is a fairly recent technology used primarily in the criminal justice system to identify an assailant.  Typically the assailant’s DNA is collected from vaginal/cervical/anal swabs and sometimes from saliva or semen found elsewhere on the victim.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ell scrapings can be collected from the side of the victim’s mouth (using a buccal swab) to distinguish her DNA from that of her assaila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Hair evidence (identific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mary use of hair evidence is to identify the assailant.  Hair samples can only be used to make the most general of distinctions between people; they cannot identify a suspect with any degree of certainty, unlike DNA evidenc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eminal fluid evidence (identification, sexual contact, corrobor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minal fluid evidence is used for two primary purposes:  to identify the assailant and to confirm that recent sexual intercourse occurred.  It can also be thought of as corroborative evidence if the presence of seminal fluid is consistent with the victim's account of event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thing evidence (force, corrobor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othing is useful as evidence to prove that force was used, if it is torn or soiled.  It can also be helpful to corroborate the victim’s stor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aliva evidence (identification, corrobor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ficers and examiners have been trained to note, photograph, and possibly even cast bite marks on the sexual assault victim in order to identify the offender.  However, it is much more common for the suspect to kiss or lick the victim’s body during an assault.  The collection of saliva evidence from the victim’s body is also useful for corroborating the victim's account of what happened during the assault.  If saliva evidence is recovered from areas of the victim's body that she indicated were licked or kissed by the suspect, this provides persuasive evidence that the assault took place as described by the victi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lood evidence is also used to corroborate the victim's story and establish the use of force.  Evidence of the suspect's blood can be used to corroborate the victim's account and establish force if it resulted from a struggle with the victim.  In addition to the blood provided by the victim for identification purposes, it is also recommended that an additional tube of blood be routinely drawn from the victim for toxicological screening, should this become an issue during the investigation and subsequent prosecu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biological evidence (identification, corrobor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course, any non-biological trace evidence should be collected which links the victim to the suspect and/or crime scene.  This could include such items as lubricants, contraceptives, debris, fibers, soil, sand, paint, or other foreign bodies.  This evidence can be used both to assist in the identification of the suspect and to corroborate the victim's account of the assaul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te:</a:t>
            </a:r>
            <a:r>
              <a:rPr b="0" lang="en-US" sz="900" spc="-1" strike="noStrike">
                <a:solidFill>
                  <a:srgbClr val="000000"/>
                </a:solidFill>
                <a:latin typeface="Calibri"/>
              </a:rPr>
              <a:t>  Forensic evidence on the victim’s body should be collected by a trained medical examiner.  It is never appropriate for law enforcement officers to take genital photographs or swabs of victi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126E-3D1F-4748-ABCE-885FED1FF27D}"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tes of non-genital inj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terature indicates that injuries resulting from sexual assault are relatively r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eview of 372 cases of sexual assault examinations conducted by a hospital emergency department, 68% of the victims seen had no injury, 26% had mild injuries, 5% had moderate injuries, and only 0.2% were severely injured (Tintinalli &amp; Hoelzer, 198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tudies indicate that only 3-5% of all sexual assault victims have major non-genital injuries or injuries requiring treatment and that only 1% typically require hospit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ent with our previous discussion in the dynamics section, non-genital injuries are not typical among sexual assault victims.  Although evidence of non-genital injury is thus powerful in demonstrating force, </a:t>
            </a:r>
            <a:r>
              <a:rPr b="0" lang="en-US" sz="1200" spc="-1" strike="noStrike" u="sng">
                <a:solidFill>
                  <a:srgbClr val="000000"/>
                </a:solidFill>
                <a:uFillTx/>
                <a:latin typeface="Calibri"/>
              </a:rPr>
              <a:t>the absence of injury should not be interpreted as consent.</a:t>
            </a:r>
            <a:r>
              <a:rPr b="0" lang="en-US" sz="1200" spc="-1" strike="noStrike">
                <a:solidFill>
                  <a:srgbClr val="000000"/>
                </a:solidFill>
                <a:latin typeface="Calibri"/>
              </a:rPr>
              <a:t> (Tintinalli &amp; Hoelzer, 1985 Cartwright, Moore, Anderson, &amp; Brown, 1986; Marchbanks, Lui, &amp; Mercy, 1990; Tucker, Ledray, &amp; Werner, 199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D496-C5D2-43C4-B84E-374A862AC380}"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fter the forensic examination is complete, there are a number of evidentiary issues to consider with the goal of successful prosecution.  First and foremost, police and medical professionals involved in the case should confer after the examination to compare notes and clarify any factual discrepancies.  This is perhaps best done immediately following the examination, but if this is impossible, the conference should take place as soon as possi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s previously discussed, this comparison might reveal sexual acts that were only reported to one of the two professionals.  These discrepancies should be explored with the victim to ensure that documentation is clear and consist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ficers should also question the forensic examiner about any foreign fibers or debris that might have been found during the sexual assault examination.  These findings should be relayed back to the police or lab personnel who are processing the crime scene to ensure proper identification and collectio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also common for victims to disclose information about condoms during the medical interview or items that the victim or suspect used to clean genitalia after the assault.  Again, this information needs to be provided to police or lab personnel who are processing the crime scen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intaining proper chain of custody (or chain of evidence) is as important as collecting the proper evidence.  Completed documentation is also essential and must include the signature of everyone who had possession of the evidence from the person who collected it to the individual bringing the evidence into the courtroom.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If this proper chain of custody is not maintained, the evidence may be inadmissibl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In addition, maintaining chain of custody is critical to prevent any possibility of evidence tampering and to deter defense counsel from raising the issue of reasonable doubt on the basis of evidence integrit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Both signatures on the chain of evidence document are necessary for any transfer – one from the person releasing the evidence and a second from the person receiving i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of course important to avoid contamination of any kind, but it is absolutely paramount that there is no possibility for contact between evidence collected from the victim and that collected from the suspect.  For example, the suspect examination should NOT be conducted in the same location as the victim examin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o frequently there are reports of completed kits that are stored in the trunks of police cruisers until time is available to physically take the kit to the crime lab.  This has the potential of damaging/destroying sensitive evidence.  Kits should be shipped to the state police lab if they cannot be transported immediatel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28E7-0ECE-4D04-A461-22295114D6B1}"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evidence in a sexual assault case includ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ime scene photograph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spect and victim cloth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ological evidence (e.g., blood, semen, saliva from the victim and suspec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erials from which biological evidence might be collected (e.g., bedding, towels, carpet, sofa cush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evidence (e.g., discarded items, articles left at the scene, condoms, foreign objec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ce evidence (e.g., hairs, fibers, debri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ngerprints, footprints, tire tracks, tool mark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ost of the evidence listed above is traditionally used to identify an assailant, note that some items may also be used to document force or thre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th the victim’s and suspect's clothing should be examined for tears or signs of forc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ood can also be used to corroborate the use of force, although it is traditionally thought of as identification evidenc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collection in a consent ca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victim was forcibly assaulted and you anticipate a consent defense, your investigation should focus on collecting evidence to corroborate the use of force or threat to perpetrate the assault.  For example, the officer should determin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re is evidence of forced entry or disturbance, such as an overturned table or broken glas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ther the victim called for help, and whether anyone heard her pleas for hel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ther there was loud music playing, and if so, how loud it wa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ther there was an obstacle preventing witnesses from seeing the assault, if it appears that witnesses should have been able to see someth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ther the victim was injured in any wa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ther the suspect was injur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FB16-8F77-4537-B060-712BCACFE75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manda Brown Complain: Evidence Collection and Use Exercise</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You can find this handout in the PIVIT Toolkit, Section D. electronic file at www.fris.org, on in the Sexual Violence Investigation Training Presentation, Supplemental Resources and Handout file if you have the electronic toolkit.]</a:t>
            </a:r>
            <a:endParaRPr b="0" lang="en-US" sz="5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17D8-E34A-4537-AE29-E0BC625574A9}"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anda Brown Complaint, Dynamics Exercise 1</a:t>
            </a: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A200-8A2E-440A-BA73-36D61A5670C2}"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Sexual Assault Response team (SART) is a multi-disciplinary, inter-agency collaboration that unites its members in a coordinated, victim-centered, and offender-focused approach to the intervention and care for victims of sexual assault.  SARTs are considered best practice as a community response to sexual assault.  They bring together responders who share the desire to create the best possible response, prioritizing a victim’s choices and need while balancing the goal of prosecuting perpetrators and creating a safer community.  It is important that all of the members have a common understanding and goal that they collaborate towards.  Some examples of goals of SARTs include: A victim-centered and offender-focused response, to mitigate the effects of sexual assault on victims and their loved ones, to increase victim and community safety and to prevent future victimization.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nk of experiences where you personally benefited from a team approach. Take a surgery for example. Everyone works as a team with one goal in mind. What if they didn’t? What if the nursing staff didn’t communicate with the surgeon, or the surgeon didn’t communicate with the anesthesiologist? Your care could be compromised and your experience would be frustrating. Consider now how the same scenario applies to a sexual assault victim having just been through a traumatic incident and is now working with complete strangers, all there to do a separate but necessary task. Through the years communities have come to recognize how, by working together, they can better help victims through this proc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mpus officers should have an MOU with local law enforcement that outlines how the agencies will work together.  It is highly recommended that first responders on campus attend local SART meeting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C4BA-6CC9-4C83-8B58-4BE72AAB98C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e members of a SART include law enforcement, advocacy (usually community and system based), prosecution, and SANE/medical personnel.  Other members can include offender management programs, social services, public health, culturally specific services, campuses, tribal leaders, elder services, etc.  Bringing together the main responders to sexual assault can create a seamless, consistent, comprehensive system, which mitigates trauma for victims.  An essential task of SARTs is to create a protocol that all responders should be trained on and follow.  Protocols should be reviewed regularly through discussion, updates in best practice, case review, and protocol review.  Research has shown that successful SARTs can increase access to services and reporting to law enforcement, victim satisfaction, and mitigate trauma. </a:t>
            </a: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3468-450B-4B40-9D45-51228B681323}"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campus partners should also include groups representing diverse or underserved student populations, the athletic department, sororities and fraternities, student health centers, residence hall assistants, library administrators, representatives from the governing board, and student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son for such extensive participation is that every member of the college community provides a potential point of entry for a sexual assault victim. Each entity needs to know his or her role and responsibility in helping the victim to transcend victimization and become a sexual assault survivor. Individuals have three primary responsibilities to the victim who approaches them. First, fulfill his or her role in relation to the victim as a friend, counselor, doctor, dean, etc. Second, each member of the network is responsible for ensuring that the victim is informed of the existence of the sexual assault response network and its function, and for providing options to the victim (if the victim so desires) for contacting the next logical contact within the network. Third, be a good listener. There is also the additional responsibility of alerting the other contacts in the network that an assault has been reported. Structurally, it is important that the network not be linear. It must be circular and flexible. An RA, friend, or peer counselor must be able to advise the victim according to his or her needs to go to a doctor, a dean, the police, a counselor or whichever contact it is most important for the victim to see while in crisis. </a:t>
            </a: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D209-3731-45A6-B804-EFDBE2FB39E5}"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 “Sexual Assault Response Teams: Partnering for Success” video from OVC; approximately 7:32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rdinated, collaborative responses (CCR) can help first responders understand one another’s role when working on sexual assault cases.  It’s important for each discipline to understand policies and practices which guide the decision making process for other first responders.  Often times we judge and place blame on others for ‘not doing their job’ or ‘not taking appropriate action.’  However, if the lines of communication are open, and there is a clear understanding of that individual’s role, first responders are more likely to work as a team.  Information sharing increases and confusion decr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R teams who meet regularly have an opportunity to discuss changes in the law, review changes in practices and procedures (such as non-reports to law enforcement and 96 hour window for a forensic exam), share resources for program improvement, and evaluate services within their county.  SART members also share upcoming training information and identify future training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a:t>
            </a:r>
            <a:r>
              <a:rPr b="1" lang="en-US" sz="1200" spc="-1" strike="noStrike">
                <a:solidFill>
                  <a:srgbClr val="000000"/>
                </a:solidFill>
                <a:latin typeface="Arial"/>
                <a:ea typeface="Arial"/>
              </a:rPr>
              <a:t>important for all of us </a:t>
            </a:r>
            <a:r>
              <a:rPr b="0" lang="en-US" sz="1200" spc="-1" strike="noStrike">
                <a:solidFill>
                  <a:srgbClr val="000000"/>
                </a:solidFill>
                <a:latin typeface="Arial"/>
                <a:ea typeface="Arial"/>
              </a:rPr>
              <a:t>to </a:t>
            </a:r>
            <a:r>
              <a:rPr b="0" lang="en-US" sz="1200" spc="-1" strike="noStrike" u="sng">
                <a:solidFill>
                  <a:srgbClr val="000000"/>
                </a:solidFill>
                <a:uFillTx/>
                <a:latin typeface="Arial"/>
                <a:ea typeface="Arial"/>
              </a:rPr>
              <a:t>look at the goals of others</a:t>
            </a:r>
            <a:r>
              <a:rPr b="0" lang="en-US" sz="1200" spc="-1" strike="noStrike">
                <a:solidFill>
                  <a:srgbClr val="000000"/>
                </a:solidFill>
                <a:latin typeface="Arial"/>
                <a:ea typeface="Arial"/>
              </a:rPr>
              <a:t> as well as our own. </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a:t>
            </a:r>
            <a:r>
              <a:rPr b="0" i="1" lang="en-US" sz="1200" spc="-1" strike="noStrike">
                <a:solidFill>
                  <a:srgbClr val="000000"/>
                </a:solidFill>
                <a:latin typeface="Arial"/>
                <a:ea typeface="Arial"/>
              </a:rPr>
              <a:t>recognize and take advantage of commonalities</a:t>
            </a:r>
            <a:endParaRPr b="0" lang="en-US" sz="1200" spc="-1" strike="noStrike">
              <a:solidFill>
                <a:srgbClr val="000000"/>
              </a:solidFill>
              <a:latin typeface="Calibri"/>
            </a:endParaRPr>
          </a:p>
          <a:p>
            <a:pPr marL="171360" indent="-1713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d </a:t>
            </a:r>
            <a:r>
              <a:rPr b="1" lang="en-US" sz="1200" spc="-1" strike="noStrike">
                <a:solidFill>
                  <a:srgbClr val="000000"/>
                </a:solidFill>
                <a:latin typeface="Arial"/>
                <a:ea typeface="Arial"/>
              </a:rPr>
              <a:t>work together </a:t>
            </a:r>
            <a:r>
              <a:rPr b="0" lang="en-US" sz="1200" spc="-1" strike="noStrike">
                <a:solidFill>
                  <a:srgbClr val="000000"/>
                </a:solidFill>
                <a:latin typeface="Arial"/>
                <a:ea typeface="Arial"/>
              </a:rPr>
              <a:t>to overcome obstacles</a:t>
            </a:r>
            <a:endParaRPr b="0" lang="en-US" sz="1200" spc="-1" strike="noStrike">
              <a:solidFill>
                <a:srgbClr val="000000"/>
              </a:solidFill>
              <a:latin typeface="Calibri"/>
            </a:endParaRPr>
          </a:p>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ing protocols can provide a consistent method for responding: reduces confusion and conflict among first responders, ensures victims’ and offenders’ rights, increases confidentiality and privacy, ensures compliance with standards and requirements, and provides a clear understanding of roles and responsibilities. </a:t>
            </a:r>
            <a:endParaRPr b="0" lang="en-US" sz="1200" spc="-1" strike="noStrike">
              <a:solidFill>
                <a:srgbClr val="000000"/>
              </a:solidFill>
              <a:latin typeface="Calibri"/>
            </a:endParaRPr>
          </a:p>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it is in the community, the same occurs on college campuses with regard to where victims report a sexual assault – it could be to anyone, anywhere. It depends on who the victim feels comfortable reporting to and how she would like to proceed.  Therefore, when developing protocols, we have to consider every entry point for a victim into the service delivery system. </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s and inter-department and inter-agency agreements, along with standard protocols, will improve your response to sexual assault cases – increasing reports from victims and increasing the likelihood of arrests – helping to maintain a safe environment.</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C362-2DE9-44D5-8F72-3BF652608377}"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References for information adapted from the Oregon’s Sexual Assault Task Force LETCBP (Law Enforcement Training Capacity Building Project)</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aterials in this manual were adapted from, “Successfully Investigating Acquaintance Sexual Assault:  A National Training Manual for Law Enforcement.”</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nternational Association of Chiefs of Police (1995, p.6,).</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r. Dean G. Kilpatrick, Christine N. Edmunds, and Anne Seymour.  Rape in America: A Report to the Nation.  Arlington, VA: National Center for Victims of Crime, 1992.</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National Crime Victimization Survey, 1992–2000, Washington, DC: U.S. Department of Justice, Bureau of Justice Statistics, 2001, available at webapp.icpsr.umich.edu/cocoon/ICPSR-STUDY/03140.xml.</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allie Marie Rennison, Ph.D., “Rape and Sexual Assault: Reporting to Police and Medical Attention, 1992-2000.” Washington, DC: Bureau of Justice Statistics, Department of Justice, August 2002.</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Elaine D'Aurizio.  “Kobe Bryant rape case seen having a chilling effect -- Some fear fewer women will report assaults.”  The Record (Bergen County, NJ), June 15, 2004.</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nformation in this section was adapted from the Trainer’s Toolbox, Pennsylvania Coalition Against Rape, 2000.</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dapted from David Baldwin's Trauma Information website:  http://www.trauma¬pages.com.</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Kilpatrick, D.G., Edmunds, C., Seymour, A. “Rape in America: A report to the nation.”  Arlington, VA: National Victim Center &amp; the Crime Victims Research and Treatment Center, 1992.</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tatistics from National Center for PTSD: www.ncptsd.va.gov</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National Intimate Partner and Sexual Violence Survey (NISVS), 2010 </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Krogan, S. (2004). “Disclosing Unwanted Sexual Experiences: Results from a National Sample of Adolescent Women.” Child Abuse and Neglect Vol. 28, No. 2, 147-165</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US Dept. of Justice, 2005 National Crime Victimization Study. 2005.</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ACP National Campus Law Enforcement Institute on Violence Against Women, 2010.</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Reporting of DV and SA by Nonstrangers to the Police, Journal of Marriage and Family (2005).</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ampbell, et al.  (1999). “Community Services for Rape Survivors: Enhancing Psychological Well-Being or Increasing Trauma.”</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lide developed by the EVAW Project, 2002 – CO</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aryland Coalition Against Sexual Assault, Sexual Assault In-Service Training for Maryland Law Enforcement Officers</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Kulbarsh, Pamela, January 12, 2011.  What Is Posttraumatic Stress Disorder: What you need to know. Officer.com</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arlier, I.V., Laberts, R.C., Gerson, BPR.  Risk Factors for Posttraumatic Stress Symptomololgy in Police Officers: A Prospective Analysis . (1997) The Journal of Nervous and Mental Disease.  Vol 185, n 8 pp 496-506 </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19BA-6446-4C26-AF82-622F53F5A1BE}" type="slidenum">
              <a:rPr b="0" lang="en-US" sz="1200" spc="-1" strike="noStrike">
                <a:solidFill>
                  <a:srgbClr val="003366"/>
                </a:solidFill>
                <a:latin typeface="Calibri"/>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28742-64B5-4048-9CC6-3751E9834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93CDC-7C70-4870-BADA-2CBF7F3F9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A8F49-3CF9-4A38-8963-D8638DCBE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7DF68-E174-494F-9075-CCD815D27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0BE36-DF2E-45FC-AE23-DDAAFB812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29625-79EC-4B7C-AA07-B2313664C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BB028-C4A0-485D-A017-3A207651D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1811C-A43B-497C-84CE-EBAF01F5D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F5DAD-4BC0-4A0E-A0C6-9287DEC8A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6DDD1-9F2A-4643-A7E5-FF5B55658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16E04-B9E3-472E-B8FD-339220180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EB8B-CFB9-43B7-85E1-8CEA494C1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7BC3-A1E5-4643-9C66-50154E5864FB}" type="datetime">
              <a:rPr b="0" lang="en-US" sz="1200" spc="-1" strike="noStrike">
                <a:solidFill>
                  <a:srgbClr val="898fa0"/>
                </a:solidFill>
                <a:latin typeface="Times New Roman"/>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965A-F5F2-4D85-9900-C0FA22184EBE}" type="slidenum">
              <a:rPr b="0" lang="en-US" sz="1200" spc="-1" strike="noStrike">
                <a:solidFill>
                  <a:srgbClr val="898fa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xual Violence Investigation</a:t>
            </a:r>
            <a:endParaRPr b="0" lang="en-US" sz="4400" spc="-1" strike="noStrike">
              <a:solidFill>
                <a:srgbClr val="003366"/>
              </a:solidFill>
              <a:latin typeface="Arial"/>
            </a:endParaRPr>
          </a:p>
        </p:txBody>
      </p:sp>
      <p:sp>
        <p:nvSpPr>
          <p:cNvPr id="87" name="PlaceHolder 2"/>
          <p:cNvSpPr>
            <a:spLocks noGrp="1"/>
          </p:cNvSpPr>
          <p:nvPr>
            <p:ph type="subTitle"/>
          </p:nvPr>
        </p:nvSpPr>
        <p:spPr>
          <a:xfrm>
            <a:off x="837720" y="3886200"/>
            <a:ext cx="7543800" cy="27432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est Virginia Intercollegiate Council Against Sexual Violence</a:t>
            </a:r>
            <a:endParaRPr b="0" lang="en-US" sz="3200" spc="-1" strike="noStrike">
              <a:solidFill>
                <a:srgbClr val="003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ww.fris.org</a:t>
            </a:r>
            <a:endParaRPr b="0" lang="en-US" sz="3200" spc="-1" strike="noStrike">
              <a:solidFill>
                <a:srgbClr val="003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This project was supported by Grant No. 2012-WA-AX-0005 through Fairmont State University awarded by the Office on Violence Against Women, U.S. Department of Justice.  The opinions, findings, conclusions, and recommendations expressed in this publication are those of the authors and do not necessarily reflect the views or policies of Fairmont State University or the U.S. Department of Justice, Office on Violence Against Women.</a:t>
            </a:r>
            <a:endParaRPr b="0" lang="en-US" sz="1000" spc="-1" strike="noStrike">
              <a:solidFill>
                <a:srgbClr val="003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88" name="Picture 4" descr="C:\Users\Kristin\AppData\Local\Microsoft\Windows\Temporary Internet Files\Content.IE5\DF4VWGU9\MC900036334[2].wmf"/>
          <p:cNvPicPr/>
          <p:nvPr/>
        </p:nvPicPr>
        <p:blipFill>
          <a:blip r:embed="rId1"/>
          <a:stretch/>
        </p:blipFill>
        <p:spPr>
          <a:xfrm>
            <a:off x="603360" y="378000"/>
            <a:ext cx="1815840" cy="1384200"/>
          </a:xfrm>
          <a:prstGeom prst="rect">
            <a:avLst/>
          </a:prstGeom>
          <a:ln w="0">
            <a:noFill/>
          </a:ln>
        </p:spPr>
      </p:pic>
      <p:pic>
        <p:nvPicPr>
          <p:cNvPr id="89" name="Picture 37" descr="C:\Users\kristin\Documents\consultant work\FRIS\SASTA\Images\police_officer_icon_400_clr_9292.png"/>
          <p:cNvPicPr/>
          <p:nvPr/>
        </p:nvPicPr>
        <p:blipFill>
          <a:blip r:embed="rId2">
            <a:grayscl/>
          </a:blip>
          <a:stretch/>
        </p:blipFill>
        <p:spPr>
          <a:xfrm>
            <a:off x="838080" y="762120"/>
            <a:ext cx="136044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Responding to Sexual Assault</a:t>
            </a:r>
            <a:endParaRPr b="0" lang="en-US" sz="4000" spc="-1" strike="noStrike">
              <a:solidFill>
                <a:srgbClr val="003366"/>
              </a:solidFill>
              <a:latin typeface="Arial"/>
            </a:endParaRPr>
          </a:p>
        </p:txBody>
      </p:sp>
      <p:sp>
        <p:nvSpPr>
          <p:cNvPr id="109" name=""/>
          <p:cNvSpPr txBox="1"/>
          <p:nvPr/>
        </p:nvSpPr>
        <p:spPr>
          <a:xfrm>
            <a:off x="457200" y="2133360"/>
            <a:ext cx="8229600" cy="4343400"/>
          </a:xfrm>
          <a:prstGeom prst="rect">
            <a:avLst/>
          </a:prstGeom>
          <a:noFill/>
          <a:ln w="0">
            <a:noFill/>
          </a:ln>
        </p:spPr>
        <p:txBody>
          <a:bodyPr anchor="t">
            <a:normAutofit/>
          </a:bodyPr>
          <a:p>
            <a:pPr marL="343080" indent="-343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e aware of your personal biases and stereotypes – </a:t>
            </a:r>
            <a:r>
              <a:rPr b="1" lang="en-US" sz="2800" spc="-1" strike="noStrike">
                <a:solidFill>
                  <a:srgbClr val="003366"/>
                </a:solidFill>
                <a:latin typeface="Times New Roman"/>
              </a:rPr>
              <a:t>keep an open mind</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recipe for a bad investigation is to form a hypothesis and try to prove it</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recipe for a good investigation is to let the evidence and facts of the case lead you to the truth</a:t>
            </a:r>
            <a:endParaRPr b="0" lang="en-US" sz="2800" spc="-1" strike="noStrike">
              <a:solidFill>
                <a:srgbClr val="003366"/>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503280"/>
            <a:ext cx="8229600" cy="5897520"/>
          </a:xfrm>
          <a:prstGeom prst="rect">
            <a:avLst/>
          </a:prstGeom>
          <a:noFill/>
          <a:ln w="0">
            <a:noFill/>
          </a:ln>
        </p:spPr>
        <p:txBody>
          <a:bodyPr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264d"/>
                </a:solidFill>
                <a:latin typeface="Arial"/>
              </a:rPr>
              <a:t>Cycle of Mistrust</a:t>
            </a:r>
            <a:endParaRPr b="0" lang="en-US" sz="4900" spc="-1" strike="noStrike">
              <a:solidFill>
                <a:srgbClr val="003366"/>
              </a:solidFill>
              <a:latin typeface="Times New Roman"/>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3366"/>
              </a:solidFill>
              <a:latin typeface="Times New Roman"/>
            </a:endParaRPr>
          </a:p>
        </p:txBody>
      </p:sp>
      <p:sp>
        <p:nvSpPr>
          <p:cNvPr id="111" name="Oval 1028"/>
          <p:cNvSpPr/>
          <p:nvPr/>
        </p:nvSpPr>
        <p:spPr>
          <a:xfrm>
            <a:off x="1143000" y="1523880"/>
            <a:ext cx="6705720" cy="4572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2" name="Text Box 1029"/>
          <p:cNvSpPr/>
          <p:nvPr/>
        </p:nvSpPr>
        <p:spPr>
          <a:xfrm>
            <a:off x="2133720" y="1295280"/>
            <a:ext cx="4800600" cy="1054080"/>
          </a:xfrm>
          <a:prstGeom prst="rect">
            <a:avLst/>
          </a:prstGeom>
          <a:solidFill>
            <a:srgbClr val="b8ff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imes New Roman"/>
              </a:rPr>
              <a:t>Investigator approaches the case with skepticism = premature evaluation of the case</a:t>
            </a:r>
            <a:endParaRPr b="0" lang="en-US" sz="2100" spc="-1" strike="noStrike">
              <a:solidFill>
                <a:srgbClr val="003366"/>
              </a:solidFill>
              <a:latin typeface="Arial"/>
            </a:endParaRPr>
          </a:p>
        </p:txBody>
      </p:sp>
      <p:sp>
        <p:nvSpPr>
          <p:cNvPr id="113" name="Text Box 1030"/>
          <p:cNvSpPr/>
          <p:nvPr/>
        </p:nvSpPr>
        <p:spPr>
          <a:xfrm>
            <a:off x="5867280" y="3048120"/>
            <a:ext cx="3048120" cy="1054080"/>
          </a:xfrm>
          <a:prstGeom prst="rect">
            <a:avLst/>
          </a:prstGeom>
          <a:solidFill>
            <a:srgbClr val="29ff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imes New Roman"/>
              </a:rPr>
              <a:t>Victim senses doubt, feels defensive = lack of cooperation</a:t>
            </a:r>
            <a:endParaRPr b="0" lang="en-US" sz="2100" spc="-1" strike="noStrike">
              <a:solidFill>
                <a:srgbClr val="003366"/>
              </a:solidFill>
              <a:latin typeface="Arial"/>
            </a:endParaRPr>
          </a:p>
        </p:txBody>
      </p:sp>
      <p:sp>
        <p:nvSpPr>
          <p:cNvPr id="114" name="Text Box 1031"/>
          <p:cNvSpPr/>
          <p:nvPr/>
        </p:nvSpPr>
        <p:spPr>
          <a:xfrm>
            <a:off x="2209680" y="5105520"/>
            <a:ext cx="4724640" cy="1054080"/>
          </a:xfrm>
          <a:prstGeom prst="rect">
            <a:avLst/>
          </a:prstGeom>
          <a:solidFill>
            <a:srgbClr val="007373"/>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ea typeface="MS PGothic"/>
              </a:rPr>
              <a:t>Investigator becomes frustrated and questions the legitimacy of the report = </a:t>
            </a:r>
            <a:r>
              <a:rPr b="0" lang="ja-JP" sz="2100" spc="-1" strike="noStrike">
                <a:solidFill>
                  <a:srgbClr val="ffffff"/>
                </a:solidFill>
                <a:latin typeface="Corbel"/>
                <a:ea typeface="MS PGothic"/>
              </a:rPr>
              <a:t>“</a:t>
            </a:r>
            <a:r>
              <a:rPr b="0" lang="en-US" sz="2100" spc="-1" strike="noStrike">
                <a:solidFill>
                  <a:srgbClr val="ffffff"/>
                </a:solidFill>
                <a:latin typeface="Corbel"/>
                <a:ea typeface="MS PGothic"/>
              </a:rPr>
              <a:t>I knew it was bogus</a:t>
            </a:r>
            <a:r>
              <a:rPr b="0" lang="ja-JP" sz="2100" spc="-1" strike="noStrike">
                <a:solidFill>
                  <a:srgbClr val="ffffff"/>
                </a:solidFill>
                <a:latin typeface="Corbel"/>
                <a:ea typeface="MS PGothic"/>
              </a:rPr>
              <a:t>”</a:t>
            </a:r>
            <a:endParaRPr b="0" lang="en-US" sz="2100" spc="-1" strike="noStrike">
              <a:solidFill>
                <a:srgbClr val="003366"/>
              </a:solidFill>
              <a:latin typeface="Arial"/>
            </a:endParaRPr>
          </a:p>
        </p:txBody>
      </p:sp>
      <p:sp>
        <p:nvSpPr>
          <p:cNvPr id="115" name="Text Box 1032"/>
          <p:cNvSpPr/>
          <p:nvPr/>
        </p:nvSpPr>
        <p:spPr>
          <a:xfrm>
            <a:off x="228600" y="3048120"/>
            <a:ext cx="3657600" cy="1054080"/>
          </a:xfrm>
          <a:prstGeom prst="rect">
            <a:avLst/>
          </a:prstGeom>
          <a:solidFill>
            <a:srgbClr val="004d4d"/>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nvestigator believes it was all a waste of time = skepticism is reinforced</a:t>
            </a:r>
            <a:endParaRPr b="0" lang="en-US" sz="2100" spc="-1" strike="noStrike">
              <a:solidFill>
                <a:srgbClr val="003366"/>
              </a:solidFill>
              <a:latin typeface="Arial"/>
            </a:endParaRPr>
          </a:p>
        </p:txBody>
      </p:sp>
      <p:sp>
        <p:nvSpPr>
          <p:cNvPr id="116" name="Text Box 1033"/>
          <p:cNvSpPr/>
          <p:nvPr/>
        </p:nvSpPr>
        <p:spPr>
          <a:xfrm>
            <a:off x="2057400" y="6491160"/>
            <a:ext cx="5943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MS PGothic"/>
              </a:rPr>
              <a:t>Slide developed by the EVAW Project, 2002 - CO</a:t>
            </a:r>
            <a:endParaRPr b="0" lang="en-US" sz="1000" spc="-1" strike="noStrike">
              <a:solidFill>
                <a:srgbClr val="003366"/>
              </a:solidFill>
              <a:latin typeface="Arial"/>
            </a:endParaRPr>
          </a:p>
        </p:txBody>
      </p:sp>
      <p:sp>
        <p:nvSpPr>
          <p:cNvPr id="117" name="Text Box 1034"/>
          <p:cNvSpPr/>
          <p:nvPr/>
        </p:nvSpPr>
        <p:spPr>
          <a:xfrm flipV="1" rot="10800000">
            <a:off x="4343400" y="243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MS PGothic"/>
              </a:rPr>
              <a:t>1</a:t>
            </a:r>
            <a:endParaRPr b="0" lang="en-US" sz="2400" spc="-1" strike="noStrike">
              <a:solidFill>
                <a:srgbClr val="003366"/>
              </a:solidFill>
              <a:latin typeface="Arial"/>
            </a:endParaRPr>
          </a:p>
        </p:txBody>
      </p:sp>
      <p:sp>
        <p:nvSpPr>
          <p:cNvPr id="118" name="Text Box 1035"/>
          <p:cNvSpPr/>
          <p:nvPr/>
        </p:nvSpPr>
        <p:spPr>
          <a:xfrm>
            <a:off x="7620120" y="251460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Text Box 1036"/>
          <p:cNvSpPr/>
          <p:nvPr/>
        </p:nvSpPr>
        <p:spPr>
          <a:xfrm>
            <a:off x="7620120" y="2514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MS PGothic"/>
              </a:rPr>
              <a:t>2</a:t>
            </a:r>
            <a:endParaRPr b="0" lang="en-US" sz="2400" spc="-1" strike="noStrike">
              <a:solidFill>
                <a:srgbClr val="003366"/>
              </a:solidFill>
              <a:latin typeface="Arial"/>
            </a:endParaRPr>
          </a:p>
        </p:txBody>
      </p:sp>
      <p:sp>
        <p:nvSpPr>
          <p:cNvPr id="120" name="Text Box 1037"/>
          <p:cNvSpPr/>
          <p:nvPr/>
        </p:nvSpPr>
        <p:spPr>
          <a:xfrm>
            <a:off x="4419720" y="4495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MS PGothic"/>
              </a:rPr>
              <a:t>3</a:t>
            </a:r>
            <a:endParaRPr b="0" lang="en-US" sz="2400" spc="-1" strike="noStrike">
              <a:solidFill>
                <a:srgbClr val="003366"/>
              </a:solidFill>
              <a:latin typeface="Arial"/>
            </a:endParaRPr>
          </a:p>
        </p:txBody>
      </p:sp>
      <p:sp>
        <p:nvSpPr>
          <p:cNvPr id="121" name="Text Box 1038"/>
          <p:cNvSpPr/>
          <p:nvPr/>
        </p:nvSpPr>
        <p:spPr>
          <a:xfrm>
            <a:off x="914400" y="2514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MS PGothic"/>
              </a:rPr>
              <a:t>4</a:t>
            </a:r>
            <a:endParaRPr b="0" lang="en-US" sz="24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2880"/>
            <a:ext cx="784872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rust Matters</a:t>
            </a:r>
            <a:br>
              <a:rPr sz="2000"/>
            </a:br>
            <a:endParaRPr b="0" lang="en-US" sz="4000" spc="-1" strike="noStrike">
              <a:solidFill>
                <a:srgbClr val="003366"/>
              </a:solidFill>
              <a:latin typeface="Arial"/>
            </a:endParaRPr>
          </a:p>
        </p:txBody>
      </p:sp>
      <p:sp>
        <p:nvSpPr>
          <p:cNvPr id="123" name=""/>
          <p:cNvSpPr txBox="1"/>
          <p:nvPr/>
        </p:nvSpPr>
        <p:spPr>
          <a:xfrm>
            <a:off x="533520" y="1523880"/>
            <a:ext cx="7696080" cy="411480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ewer than 5 percent of college women who are victims of rape or attempted rape report it to the police. </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graphicFrame>
        <p:nvGraphicFramePr>
          <p:cNvPr id="124" name=""/>
          <p:cNvGraphicFramePr/>
          <p:nvPr/>
        </p:nvGraphicFramePr>
        <p:xfrm>
          <a:off x="2328840" y="6308640"/>
          <a:ext cx="6815160" cy="549360"/>
        </p:xfrm>
        <a:graphic>
          <a:graphicData uri="http://schemas.openxmlformats.org/drawingml/2006/table">
            <a:tbl>
              <a:tblPr/>
              <a:tblGrid>
                <a:gridCol w="6815160"/>
              </a:tblGrid>
              <a:tr h="54936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r, B., Cullen, F. &amp; Turner, M. (2000). </a:t>
                      </a:r>
                      <a:r>
                        <a:rPr b="0" i="1" lang="en-US" sz="1200" spc="-1" strike="noStrike">
                          <a:solidFill>
                            <a:srgbClr val="ffffff"/>
                          </a:solidFill>
                          <a:latin typeface="Times New Roman"/>
                        </a:rPr>
                        <a:t>The Sexual Victimization of College Women. </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txBody>
                  <a:tcPr anchor="t" marL="91440" marR="91440">
                    <a:lnL>
                      <a:noFill/>
                    </a:lnL>
                    <a:lnR>
                      <a:noFill/>
                    </a:lnR>
                    <a:lnT>
                      <a:noFill/>
                    </a:lnT>
                    <a:lnB>
                      <a:no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Victims Don’t Report</a:t>
            </a:r>
            <a:endParaRPr b="0" lang="en-US" sz="4400" spc="-1" strike="noStrike">
              <a:solidFill>
                <a:srgbClr val="003366"/>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ctims of non-stranger sexual assault offer a range of reasons for not reporting the rape to authorities</a:t>
            </a:r>
            <a:endParaRPr b="0" lang="en-US" sz="32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r publicity </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reprisal</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isolation </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not being believed</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lf-blame </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family/friends will find out</a:t>
            </a:r>
            <a:endParaRPr b="0" lang="en-US" sz="2800" spc="-1" strike="noStrike">
              <a:solidFill>
                <a:srgbClr val="003366"/>
              </a:solidFill>
              <a:latin typeface="Times New Roman"/>
            </a:endParaRPr>
          </a:p>
          <a:p>
            <a:pPr marL="332640" indent="-3326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6">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6">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6">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6">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6">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Victims Don’t Report</a:t>
            </a:r>
            <a:endParaRPr b="0" lang="en-US" sz="4400" spc="-1" strike="noStrike">
              <a:solidFill>
                <a:srgbClr val="003366"/>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ay want to protect the offender</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ay not know to whom to report</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Participation in illegal activity during assault</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Outstanding warrants</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Geographic isolation</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Lack of anonymity</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Community backlash</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Possible immigration concerns</a:t>
            </a:r>
            <a:endParaRPr b="0" lang="en-US" sz="26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Preliminary Interview</a:t>
            </a:r>
            <a:endParaRPr b="0" lang="en-US" sz="4000" spc="-1" strike="noStrike">
              <a:solidFill>
                <a:srgbClr val="003366"/>
              </a:solidFill>
              <a:latin typeface="Arial"/>
            </a:endParaRPr>
          </a:p>
        </p:txBody>
      </p:sp>
      <p:sp>
        <p:nvSpPr>
          <p:cNvPr id="130" name=""/>
          <p:cNvSpPr txBox="1"/>
          <p:nvPr/>
        </p:nvSpPr>
        <p:spPr>
          <a:xfrm>
            <a:off x="457200" y="1828800"/>
            <a:ext cx="8229600" cy="4495680"/>
          </a:xfrm>
          <a:prstGeom prst="rect">
            <a:avLst/>
          </a:prstGeom>
          <a:noFill/>
          <a:ln w="0">
            <a:noFill/>
          </a:ln>
        </p:spPr>
        <p:txBody>
          <a:bodyPr anchor="t">
            <a:normAutofit/>
          </a:bodyPr>
          <a:p>
            <a:pPr marL="343080" indent="-34308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Conducting an initial victim interview will</a:t>
            </a:r>
            <a:endParaRPr b="0" lang="en-US" sz="3000" spc="-1" strike="noStrike">
              <a:solidFill>
                <a:srgbClr val="003366"/>
              </a:solidFill>
              <a:latin typeface="Times New Roman"/>
            </a:endParaRPr>
          </a:p>
          <a:p>
            <a:pPr lvl="1" marL="7430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form your </a:t>
            </a:r>
            <a:r>
              <a:rPr b="0" lang="en-US" sz="3000" spc="-1" strike="noStrike" u="sng">
                <a:solidFill>
                  <a:srgbClr val="003366"/>
                </a:solidFill>
                <a:uFillTx/>
                <a:latin typeface="Times New Roman"/>
              </a:rPr>
              <a:t>plan of action</a:t>
            </a:r>
            <a:r>
              <a:rPr b="0" lang="en-US" sz="3000" spc="-1" strike="noStrike">
                <a:solidFill>
                  <a:srgbClr val="003366"/>
                </a:solidFill>
                <a:latin typeface="Times New Roman"/>
              </a:rPr>
              <a:t>:</a:t>
            </a:r>
            <a:endParaRPr b="0" lang="en-US" sz="30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suspect</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stablish elements of crim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crime scene(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llect evidenc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need for additional resources </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other follow-up leads</a:t>
            </a:r>
            <a:endParaRPr b="0" lang="en-US" sz="2800" spc="-1" strike="noStrike">
              <a:solidFill>
                <a:srgbClr val="003366"/>
              </a:solidFill>
              <a:latin typeface="Times New Roman"/>
            </a:endParaRPr>
          </a:p>
          <a:p>
            <a:pPr lvl="1" marL="743040" indent="-285840">
              <a:lnSpc>
                <a:spcPct val="10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lnSpc>
                <a:spcPct val="10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lnSpc>
                <a:spcPct val="10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76320"/>
            <a:ext cx="79250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Medical/Forensic Care</a:t>
            </a:r>
            <a:endParaRPr b="0" lang="en-US" sz="4000" spc="-1" strike="noStrike">
              <a:solidFill>
                <a:srgbClr val="003366"/>
              </a:solidFill>
              <a:latin typeface="Arial"/>
            </a:endParaRPr>
          </a:p>
        </p:txBody>
      </p:sp>
      <p:sp>
        <p:nvSpPr>
          <p:cNvPr id="132" name=""/>
          <p:cNvSpPr txBox="1"/>
          <p:nvPr/>
        </p:nvSpPr>
        <p:spPr>
          <a:xfrm>
            <a:off x="457200" y="1600200"/>
            <a:ext cx="8229600" cy="4648320"/>
          </a:xfrm>
          <a:prstGeom prst="rect">
            <a:avLst/>
          </a:prstGeom>
          <a:noFill/>
          <a:ln w="0">
            <a:noFill/>
          </a:ln>
        </p:spPr>
        <p:txBody>
          <a:bodyPr anchor="t">
            <a:normAutofit/>
          </a:bodyPr>
          <a:p>
            <a:pPr marL="343080" indent="-343080">
              <a:lnSpc>
                <a:spcPct val="8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valuate need for emergency medical treatment</a:t>
            </a:r>
            <a:endParaRPr b="0" lang="en-US" sz="2800" spc="-1" strike="noStrike">
              <a:solidFill>
                <a:srgbClr val="003366"/>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ncourage a Sexual Assault Forensic Medical Exam</a:t>
            </a:r>
            <a:endParaRPr b="0" lang="en-US" sz="2800" spc="-1" strike="noStrike">
              <a:solidFill>
                <a:srgbClr val="003366"/>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nSpc>
                <a:spcPct val="8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lvl="1" marL="743040" indent="-28584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64d"/>
                </a:solidFill>
                <a:latin typeface="Times New Roman"/>
              </a:rPr>
              <a:t>Medical care is always advisable</a:t>
            </a:r>
            <a:endParaRPr b="0" lang="en-US" sz="26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If you suspect drug-facilitated </a:t>
            </a:r>
            <a:br>
              <a:rPr sz="4000"/>
            </a:br>
            <a:r>
              <a:rPr b="0" lang="en-US" sz="4000" spc="-1" strike="noStrike">
                <a:solidFill>
                  <a:srgbClr val="00264d"/>
                </a:solidFill>
                <a:latin typeface="Arial"/>
              </a:rPr>
              <a:t>sexual assault…</a:t>
            </a:r>
            <a:endParaRPr b="0" lang="en-US" sz="4000" spc="-1" strike="noStrike">
              <a:solidFill>
                <a:srgbClr val="003366"/>
              </a:solidFill>
              <a:latin typeface="Arial"/>
            </a:endParaRPr>
          </a:p>
        </p:txBody>
      </p:sp>
      <p:sp>
        <p:nvSpPr>
          <p:cNvPr id="134" name="TextBox 5"/>
          <p:cNvSpPr/>
          <p:nvPr/>
        </p:nvSpPr>
        <p:spPr>
          <a:xfrm>
            <a:off x="5181480" y="167652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Expedite seizure of blood and urine for later analysis</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5" name="Content Placeholder 6" descr=""/>
          <p:cNvPicPr/>
          <p:nvPr/>
        </p:nvPicPr>
        <p:blipFill>
          <a:blip r:embed="rId1"/>
          <a:srcRect l="0" t="18869" r="0" b="18869"/>
          <a:stretch/>
        </p:blipFill>
        <p:spPr>
          <a:xfrm>
            <a:off x="457200" y="1774800"/>
            <a:ext cx="4568760" cy="2568600"/>
          </a:xfrm>
          <a:prstGeom prst="rect">
            <a:avLst/>
          </a:prstGeom>
          <a:ln w="0">
            <a:noFill/>
          </a:ln>
        </p:spPr>
      </p:pic>
      <p:sp>
        <p:nvSpPr>
          <p:cNvPr id="136" name="TextBox 7"/>
          <p:cNvSpPr/>
          <p:nvPr/>
        </p:nvSpPr>
        <p:spPr>
          <a:xfrm>
            <a:off x="762120" y="4495680"/>
            <a:ext cx="7615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Suspicion may be based on:</a:t>
            </a:r>
            <a:endParaRPr b="0" lang="en-US" sz="2800" spc="-1" strike="noStrike">
              <a:solidFill>
                <a:srgbClr val="003366"/>
              </a:solidFill>
              <a:latin typeface="Arial"/>
            </a:endParaRPr>
          </a:p>
          <a:p>
            <a:pPr lvl="1" marL="457200">
              <a:lnSpc>
                <a:spcPct val="100000"/>
              </a:lnSpc>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Statements of victim’s activity</a:t>
            </a:r>
            <a:endParaRPr b="0" lang="en-US" sz="2800" spc="-1" strike="noStrike">
              <a:solidFill>
                <a:srgbClr val="003366"/>
              </a:solidFill>
              <a:latin typeface="Arial"/>
            </a:endParaRPr>
          </a:p>
          <a:p>
            <a:pPr lvl="1" marL="457200">
              <a:lnSpc>
                <a:spcPct val="100000"/>
              </a:lnSpc>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Statement of victim’s physical symptoms </a:t>
            </a:r>
            <a:endParaRPr b="0" lang="en-US" sz="2800" spc="-1" strike="noStrike">
              <a:solidFill>
                <a:srgbClr val="003366"/>
              </a:solidFill>
              <a:latin typeface="Arial"/>
            </a:endParaRPr>
          </a:p>
          <a:p>
            <a:pPr lvl="1" marL="457200">
              <a:lnSpc>
                <a:spcPct val="100000"/>
              </a:lnSpc>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Officer’s observation of victim</a:t>
            </a:r>
            <a:endParaRPr b="0" lang="en-US" sz="2800" spc="-1" strike="noStrike">
              <a:solidFill>
                <a:srgbClr val="003366"/>
              </a:solidFill>
              <a:latin typeface="Arial"/>
            </a:endParaRPr>
          </a:p>
          <a:p>
            <a:pPr lvl="1" marL="457200">
              <a:lnSpc>
                <a:spcPct val="100000"/>
              </a:lnSpc>
              <a:buClr>
                <a:srgbClr val="e75c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rbel"/>
                <a:ea typeface="MS PGothic"/>
              </a:rPr>
              <a:t>Information from witnesses</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ictim Interview</a:t>
            </a:r>
            <a:endParaRPr b="0" lang="en-US" sz="4400" spc="-1" strike="noStrike">
              <a:solidFill>
                <a:srgbClr val="003366"/>
              </a:solidFill>
              <a:latin typeface="Arial"/>
            </a:endParaRPr>
          </a:p>
        </p:txBody>
      </p:sp>
      <p:pic>
        <p:nvPicPr>
          <p:cNvPr id="138" name="Picture 3" descr="DV37.jpg"/>
          <p:cNvPicPr/>
          <p:nvPr/>
        </p:nvPicPr>
        <p:blipFill>
          <a:blip r:embed="rId1"/>
          <a:stretch/>
        </p:blipFill>
        <p:spPr>
          <a:xfrm>
            <a:off x="4572000" y="3581280"/>
            <a:ext cx="2381400" cy="190512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ictim Interview</a:t>
            </a:r>
            <a:endParaRPr b="0" lang="en-US" sz="4400" spc="-1" strike="noStrike">
              <a:solidFill>
                <a:srgbClr val="003366"/>
              </a:solidFill>
              <a:latin typeface="Arial"/>
            </a:endParaRPr>
          </a:p>
        </p:txBody>
      </p:sp>
      <p:sp>
        <p:nvSpPr>
          <p:cNvPr id="140" name=""/>
          <p:cNvSpPr txBox="1"/>
          <p:nvPr/>
        </p:nvSpPr>
        <p:spPr>
          <a:xfrm>
            <a:off x="457200" y="2484360"/>
            <a:ext cx="8229600" cy="41450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62-6-8. Alleged victim of sexual offense may not be required to submit to a polygraph examination or other truth telling device as a condition of investigating an alleged offense nor may prosecutors or law-enforcement officers decline to proceed if the victim refuses such examinatio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ordinated Respons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ctim Interview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ase Classification</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vercoming Challeng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idence Preservation/Collection</a:t>
            </a:r>
            <a:endParaRPr b="0" lang="en-US" sz="3200" spc="-1" strike="noStrike">
              <a:solidFill>
                <a:srgbClr val="003366"/>
              </a:solidFill>
              <a:latin typeface="Times New Roman"/>
            </a:endParaRPr>
          </a:p>
        </p:txBody>
      </p:sp>
      <p:pic>
        <p:nvPicPr>
          <p:cNvPr id="92" name="Picture 2" descr="C:\Documents and Settings\amarti24\Local Settings\Temporary Internet Files\Content.IE5\MMWZ8EFA\MP900400644[1].jpg"/>
          <p:cNvPicPr/>
          <p:nvPr/>
        </p:nvPicPr>
        <p:blipFill>
          <a:blip r:embed="rId1"/>
          <a:stretch/>
        </p:blipFill>
        <p:spPr>
          <a:xfrm>
            <a:off x="6321600" y="3517920"/>
            <a:ext cx="2090520" cy="261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Victim Interview</a:t>
            </a:r>
            <a:endParaRPr b="0" lang="en-US" sz="4000" spc="-1" strike="noStrike">
              <a:solidFill>
                <a:srgbClr val="003366"/>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terview may be divided into 2 separate interviews:</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eliminary </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etailed, follow-up</a:t>
            </a:r>
            <a:endParaRPr b="0" lang="en-US" sz="28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Preliminary Interview</a:t>
            </a:r>
            <a:endParaRPr b="0" lang="en-US" sz="4000" spc="-1" strike="noStrike">
              <a:solidFill>
                <a:srgbClr val="003366"/>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Determine:</a:t>
            </a:r>
            <a:endParaRPr b="0" lang="en-US" sz="30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Scope of interview</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Jurisdiction</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cute vs. non-acut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rime scene considerations</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lvl="2" marL="1143000" indent="-228600">
              <a:spcBef>
                <a:spcPts val="7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leeting evidence</a:t>
            </a:r>
            <a:endParaRPr b="0" lang="en-US" sz="2800" spc="-1" strike="noStrike">
              <a:solidFill>
                <a:srgbClr val="003366"/>
              </a:solidFill>
              <a:latin typeface="Times New Roman"/>
            </a:endParaRPr>
          </a:p>
          <a:p>
            <a:pPr lvl="2" marL="1143000" indent="-228600">
              <a:spcBef>
                <a:spcPts val="700"/>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xigent circumstances</a:t>
            </a:r>
            <a:endParaRPr b="0" lang="en-US" sz="2800" spc="-1" strike="noStrike">
              <a:solidFill>
                <a:srgbClr val="0033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Working with Advocates</a:t>
            </a:r>
            <a:endParaRPr b="0" lang="en-US" sz="4000" spc="-1" strike="noStrike">
              <a:solidFill>
                <a:srgbClr val="003366"/>
              </a:solidFill>
              <a:latin typeface="Arial"/>
            </a:endParaRPr>
          </a:p>
        </p:txBody>
      </p:sp>
      <p:sp>
        <p:nvSpPr>
          <p:cNvPr id="146" name=""/>
          <p:cNvSpPr txBox="1"/>
          <p:nvPr/>
        </p:nvSpPr>
        <p:spPr>
          <a:xfrm>
            <a:off x="457200" y="1523520"/>
            <a:ext cx="8229600" cy="4746600"/>
          </a:xfrm>
          <a:prstGeom prst="rect">
            <a:avLst/>
          </a:prstGeom>
          <a:noFill/>
          <a:ln w="0">
            <a:noFill/>
          </a:ln>
        </p:spPr>
        <p:txBody>
          <a:bodyPr anchor="t">
            <a:normAutofit/>
          </a:bodyPr>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dvocates can provide information, support, referrals, and crisis intervention </a:t>
            </a:r>
            <a:endParaRPr b="0" lang="en-US" sz="2400" spc="-1" strike="noStrike">
              <a:solidFill>
                <a:srgbClr val="003366"/>
              </a:solidFill>
              <a:latin typeface="Times New Roman"/>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ay be based in a community non-profit, prosecutor’s</a:t>
            </a:r>
            <a:r>
              <a:rPr b="0" lang="en-US" sz="2400" spc="-1" strike="noStrike">
                <a:solidFill>
                  <a:srgbClr val="003366"/>
                </a:solidFill>
                <a:latin typeface="Times New Roman"/>
                <a:ea typeface="MS PMincho"/>
              </a:rPr>
              <a:t> office, law enforcement agency, campus office, and/or healthcare facility</a:t>
            </a:r>
            <a:endParaRPr b="0" lang="en-US" sz="2400" spc="-1" strike="noStrike">
              <a:solidFill>
                <a:srgbClr val="003366"/>
              </a:solidFill>
              <a:latin typeface="Times New Roman"/>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ictims who have support are more likely to continue participating in the criminal justice system</a:t>
            </a:r>
            <a:endParaRPr b="0" lang="en-US" sz="2400" spc="-1" strike="noStrike">
              <a:solidFill>
                <a:srgbClr val="003366"/>
              </a:solidFill>
              <a:latin typeface="Times New Roman"/>
            </a:endParaRPr>
          </a:p>
          <a:p>
            <a:pPr marL="343080" indent="-3430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Know where your advocates will respond and the protocol for calling them out</a:t>
            </a:r>
            <a:endParaRPr b="0" lang="en-US" sz="2400" spc="-1" strike="noStrike">
              <a:solidFill>
                <a:srgbClr val="003366"/>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d"/>
                </a:solidFill>
                <a:latin typeface="Times New Roman"/>
              </a:rPr>
              <a:t>Advocates </a:t>
            </a:r>
            <a:r>
              <a:rPr b="1" lang="en-US" sz="2800" spc="-1" strike="noStrike" u="sng">
                <a:solidFill>
                  <a:srgbClr val="00264d"/>
                </a:solidFill>
                <a:uFillTx/>
                <a:latin typeface="Times New Roman"/>
              </a:rPr>
              <a:t>are</a:t>
            </a:r>
            <a:r>
              <a:rPr b="1" lang="en-US" sz="2800" spc="-1" strike="noStrike">
                <a:solidFill>
                  <a:srgbClr val="00264d"/>
                </a:solidFill>
                <a:latin typeface="Times New Roman"/>
              </a:rPr>
              <a:t> best practice</a:t>
            </a:r>
            <a:endParaRPr b="0" lang="en-US" sz="2800" spc="-1" strike="noStrike">
              <a:solidFill>
                <a:srgbClr val="003366"/>
              </a:solidFill>
              <a:latin typeface="Times New Roman"/>
            </a:endParaRPr>
          </a:p>
          <a:p>
            <a:pPr marL="343080" indent="-343080">
              <a:spcBef>
                <a:spcPts val="700"/>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Working with Advocates</a:t>
            </a:r>
            <a:endParaRPr b="0" lang="en-US" sz="4000" spc="-1" strike="noStrike">
              <a:solidFill>
                <a:srgbClr val="003366"/>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marL="343080" indent="-34308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Be aware that a community-based advocacy agency </a:t>
            </a:r>
            <a:r>
              <a:rPr b="0" lang="en-US" sz="3000" spc="-1" strike="noStrike" u="sng">
                <a:solidFill>
                  <a:srgbClr val="003366"/>
                </a:solidFill>
                <a:uFillTx/>
                <a:latin typeface="Times New Roman"/>
              </a:rPr>
              <a:t>cannot</a:t>
            </a:r>
            <a:r>
              <a:rPr b="0" lang="en-US" sz="3000" spc="-1" strike="noStrike">
                <a:solidFill>
                  <a:srgbClr val="003366"/>
                </a:solidFill>
                <a:latin typeface="Times New Roman"/>
              </a:rPr>
              <a:t> share any information about the victim without a specific, time-limited release of information form signed by the victim.</a:t>
            </a:r>
            <a:endParaRPr b="0" lang="en-US" sz="3000" spc="-1" strike="noStrike">
              <a:solidFill>
                <a:srgbClr val="0033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8717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Goals of Follow-up Interview</a:t>
            </a:r>
            <a:endParaRPr b="0" lang="en-US" sz="4000" spc="-1" strike="noStrike">
              <a:solidFill>
                <a:srgbClr val="003366"/>
              </a:solidFill>
              <a:latin typeface="Arial"/>
            </a:endParaRPr>
          </a:p>
        </p:txBody>
      </p:sp>
      <p:sp>
        <p:nvSpPr>
          <p:cNvPr id="150" name=""/>
          <p:cNvSpPr txBox="1"/>
          <p:nvPr/>
        </p:nvSpPr>
        <p:spPr>
          <a:xfrm>
            <a:off x="457200" y="1447920"/>
            <a:ext cx="8229600" cy="4626000"/>
          </a:xfrm>
          <a:prstGeom prst="rect">
            <a:avLst/>
          </a:prstGeom>
          <a:noFill/>
          <a:ln w="0">
            <a:noFill/>
          </a:ln>
        </p:spPr>
        <p:txBody>
          <a:bodyPr anchor="t">
            <a:normAutofit/>
          </a:bodyPr>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firm, clarify and expand on the initial  (preliminary) interview</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stablish the elements of the crime</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firm the location of the crime</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imes New Roman"/>
              </a:rPr>
              <a:t>Determine the theme of the investigation</a:t>
            </a:r>
            <a:r>
              <a:rPr b="0" lang="en-US" sz="3200" spc="-1" strike="noStrike">
                <a:solidFill>
                  <a:srgbClr val="003366"/>
                </a:solidFill>
                <a:latin typeface="Times New Roman"/>
              </a:rPr>
              <a:t> – what to corroborate and likely defense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5160"/>
            <a:ext cx="82296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264d"/>
                </a:solidFill>
                <a:latin typeface="Arial"/>
              </a:rPr>
              <a:t>   </a:t>
            </a:r>
            <a:br>
              <a:rPr sz="4000"/>
            </a:br>
            <a:r>
              <a:rPr b="0" lang="en-US" sz="4000" spc="-1" strike="noStrike">
                <a:solidFill>
                  <a:srgbClr val="00264d"/>
                </a:solidFill>
                <a:latin typeface="Arial"/>
              </a:rPr>
              <a:t>Before the Follow-up Interview</a:t>
            </a:r>
            <a:endParaRPr b="0" lang="en-US" sz="4000" spc="-1" strike="noStrike">
              <a:solidFill>
                <a:srgbClr val="003366"/>
              </a:solidFill>
              <a:latin typeface="Arial"/>
            </a:endParaRPr>
          </a:p>
        </p:txBody>
      </p:sp>
      <p:sp>
        <p:nvSpPr>
          <p:cNvPr id="152" name=""/>
          <p:cNvSpPr txBox="1"/>
          <p:nvPr/>
        </p:nvSpPr>
        <p:spPr>
          <a:xfrm>
            <a:off x="457200" y="1600200"/>
            <a:ext cx="8229600" cy="4648320"/>
          </a:xfrm>
          <a:prstGeom prst="rect">
            <a:avLst/>
          </a:prstGeom>
          <a:noFill/>
          <a:ln w="0">
            <a:noFill/>
          </a:ln>
        </p:spPr>
        <p:txBody>
          <a:bodyPr anchor="t">
            <a:normAutofit/>
          </a:bodyPr>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lf-assessment</a:t>
            </a:r>
            <a:endParaRPr b="0" lang="en-US" sz="2800" spc="-1" strike="noStrike">
              <a:solidFill>
                <a:srgbClr val="003366"/>
              </a:solidFill>
              <a:latin typeface="Times New Roman"/>
            </a:endParaRPr>
          </a:p>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lect a location</a:t>
            </a:r>
            <a:endParaRPr b="0" lang="en-US" sz="2800" spc="-1" strike="noStrike">
              <a:solidFill>
                <a:srgbClr val="003366"/>
              </a:solidFill>
              <a:latin typeface="Times New Roman"/>
            </a:endParaRPr>
          </a:p>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ddress specific needs</a:t>
            </a:r>
            <a:endParaRPr b="0" lang="en-US" sz="2800" spc="-1" strike="noStrike">
              <a:solidFill>
                <a:srgbClr val="003366"/>
              </a:solidFill>
              <a:latin typeface="Times New Roman"/>
            </a:endParaRPr>
          </a:p>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o will be present?</a:t>
            </a:r>
            <a:endParaRPr b="0" lang="en-US" sz="2800" spc="-1" strike="noStrike">
              <a:solidFill>
                <a:srgbClr val="003366"/>
              </a:solidFill>
              <a:latin typeface="Times New Roman"/>
            </a:endParaRPr>
          </a:p>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at are the ground rules?</a:t>
            </a:r>
            <a:endParaRPr b="0" lang="en-US" sz="2800" spc="-1" strike="noStrike">
              <a:solidFill>
                <a:srgbClr val="003366"/>
              </a:solidFill>
              <a:latin typeface="Times New Roman"/>
            </a:endParaRPr>
          </a:p>
          <a:p>
            <a:pPr lvl="1" marL="743040" indent="-28584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arties present (advocate, medical professional)</a:t>
            </a:r>
            <a:endParaRPr b="0" lang="en-US" sz="2800" spc="-1" strike="noStrike">
              <a:solidFill>
                <a:srgbClr val="003366"/>
              </a:solidFill>
              <a:latin typeface="Times New Roman"/>
            </a:endParaRPr>
          </a:p>
          <a:p>
            <a:pPr marL="343080" indent="-343080">
              <a:spcBef>
                <a:spcPts val="700"/>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ow can you give the victim some control?</a:t>
            </a:r>
            <a:endParaRPr b="0" lang="en-US" sz="28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5516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Beginning the Interview</a:t>
            </a:r>
            <a:endParaRPr b="0" lang="en-US" sz="4000" spc="-1" strike="noStrike">
              <a:solidFill>
                <a:srgbClr val="003366"/>
              </a:solidFill>
              <a:latin typeface="Arial"/>
            </a:endParaRPr>
          </a:p>
        </p:txBody>
      </p:sp>
      <p:sp>
        <p:nvSpPr>
          <p:cNvPr id="154" name=""/>
          <p:cNvSpPr txBox="1"/>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acilitate comfort</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cknowledge the victim’s </a:t>
            </a:r>
            <a:r>
              <a:rPr b="0" lang="en-US" sz="3200" spc="-1" strike="noStrike">
                <a:solidFill>
                  <a:srgbClr val="003366"/>
                </a:solidFill>
                <a:latin typeface="Times New Roman"/>
                <a:ea typeface="MS PMincho"/>
              </a:rPr>
              <a:t>ordeal</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llow the victim to vent</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mmunicate empathy</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uild rapport</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ose simple question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Beginning the Interview</a:t>
            </a:r>
            <a:endParaRPr b="0" lang="en-US" sz="4000" spc="-1" strike="noStrike">
              <a:solidFill>
                <a:srgbClr val="003366"/>
              </a:solidFill>
              <a:latin typeface="Arial"/>
            </a:endParaRPr>
          </a:p>
        </p:txBody>
      </p:sp>
      <p:sp>
        <p:nvSpPr>
          <p:cNvPr id="156" name=""/>
          <p:cNvSpPr txBox="1"/>
          <p:nvPr/>
        </p:nvSpPr>
        <p:spPr>
          <a:xfrm>
            <a:off x="457200" y="1676520"/>
            <a:ext cx="8229600" cy="4449600"/>
          </a:xfrm>
          <a:prstGeom prst="rect">
            <a:avLst/>
          </a:prstGeom>
          <a:noFill/>
          <a:ln w="0">
            <a:noFill/>
          </a:ln>
        </p:spPr>
        <p:txBody>
          <a:bodyPr anchor="t">
            <a:normAutofit/>
          </a:bodyPr>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plain the purpose of the interview</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ddress concerns about prosecution</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ddress the victim’s question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plain it is okay to answer “I don’t know” or “I don’t remember”</a:t>
            </a:r>
            <a:endParaRPr b="0" lang="en-US" sz="3200" spc="-1" strike="noStrike">
              <a:solidFill>
                <a:srgbClr val="003366"/>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Victims Who Don’t Initially Report</a:t>
            </a:r>
            <a:endParaRPr b="0" lang="en-US" sz="4000" spc="-1" strike="noStrike">
              <a:solidFill>
                <a:srgbClr val="003366"/>
              </a:solidFill>
              <a:latin typeface="Arial"/>
            </a:endParaRPr>
          </a:p>
        </p:txBody>
      </p:sp>
      <p:sp>
        <p:nvSpPr>
          <p:cNvPr id="158" name=""/>
          <p:cNvSpPr txBox="1"/>
          <p:nvPr/>
        </p:nvSpPr>
        <p:spPr>
          <a:xfrm>
            <a:off x="457200" y="1142640"/>
            <a:ext cx="8229600" cy="571500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ensic medical exam conducted without reporting to law enforcemen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Kits are stored at Marshall University’s Forensic Science (MUFSC)</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ith no statute of limitations on sexual assault, the victim can later report the crim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Kits can be retrieved from MUFSC by law enforcement and then submitted to the state crime lab using </a:t>
            </a:r>
            <a:r>
              <a:rPr b="0" i="1" lang="en-US" sz="3200" spc="-1" strike="noStrike">
                <a:solidFill>
                  <a:srgbClr val="003366"/>
                </a:solidFill>
                <a:latin typeface="Times New Roman"/>
              </a:rPr>
              <a:t>WVSP Case Submission Form 53</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First Stage: Victim’s Narrative</a:t>
            </a:r>
            <a:endParaRPr b="0" lang="en-US" sz="4000" spc="-1" strike="noStrike">
              <a:solidFill>
                <a:srgbClr val="003366"/>
              </a:solidFill>
              <a:latin typeface="Arial"/>
            </a:endParaRPr>
          </a:p>
        </p:txBody>
      </p:sp>
      <p:sp>
        <p:nvSpPr>
          <p:cNvPr id="160" name=""/>
          <p:cNvSpPr txBox="1"/>
          <p:nvPr/>
        </p:nvSpPr>
        <p:spPr>
          <a:xfrm>
            <a:off x="457200" y="1676160"/>
            <a:ext cx="8229600" cy="4647960"/>
          </a:xfrm>
          <a:prstGeom prst="rect">
            <a:avLst/>
          </a:prstGeom>
          <a:noFill/>
          <a:ln w="0">
            <a:noFill/>
          </a:ln>
        </p:spPr>
        <p:txBody>
          <a:bodyPr anchor="t">
            <a:normAutofit fontScale="98000"/>
          </a:bodyPr>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void touching the victim</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onitor the victim’s</a:t>
            </a:r>
            <a:r>
              <a:rPr b="0" lang="en-US" sz="3200" spc="-1" strike="noStrike">
                <a:solidFill>
                  <a:srgbClr val="003366"/>
                </a:solidFill>
                <a:latin typeface="Times New Roman"/>
                <a:ea typeface="MS PMincho"/>
              </a:rPr>
              <a:t> body language</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Use victim’s terminology </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arify sexual terminology used by victim</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ngage in active listening</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Use reflective comments</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arify and summarize</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ake breaks as needed</a:t>
            </a:r>
            <a:endParaRPr b="0" lang="en-US" sz="3200" spc="-1" strike="noStrike">
              <a:solidFill>
                <a:srgbClr val="003366"/>
              </a:solidFill>
              <a:latin typeface="Times New Roman"/>
            </a:endParaRPr>
          </a:p>
          <a:p>
            <a:pPr marL="335880" indent="-335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ote on Pronoun Use</a:t>
            </a:r>
            <a:endParaRPr b="0" lang="en-US" sz="4400" spc="-1" strike="noStrike">
              <a:solidFill>
                <a:srgbClr val="003366"/>
              </a:solidFill>
              <a:latin typeface="Arial"/>
            </a:endParaRPr>
          </a:p>
        </p:txBody>
      </p:sp>
      <p:sp>
        <p:nvSpPr>
          <p:cNvPr id="94" name=""/>
          <p:cNvSpPr txBox="1"/>
          <p:nvPr/>
        </p:nvSpPr>
        <p:spPr>
          <a:xfrm>
            <a:off x="533160" y="1149120"/>
            <a:ext cx="8381880" cy="470844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majority of victims are female and the majority of offenders are mal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conversational purposes, victims may be referred to as female and offenders as mal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s </a:t>
            </a:r>
            <a:r>
              <a:rPr b="1" lang="en-US" sz="3200" spc="-1" strike="noStrike">
                <a:solidFill>
                  <a:srgbClr val="003366"/>
                </a:solidFill>
                <a:latin typeface="Times New Roman"/>
              </a:rPr>
              <a:t>does not </a:t>
            </a:r>
            <a:r>
              <a:rPr b="0" lang="en-US" sz="3200" spc="-1" strike="noStrike">
                <a:solidFill>
                  <a:srgbClr val="003366"/>
                </a:solidFill>
                <a:latin typeface="Times New Roman"/>
              </a:rPr>
              <a:t>imply that males are not victims or that females are not offenders, or that violence does not occur against same sex</a:t>
            </a:r>
            <a:endParaRPr b="0" lang="en-US" sz="3200" spc="-1" strike="noStrike">
              <a:solidFill>
                <a:srgbClr val="003366"/>
              </a:solidFill>
              <a:latin typeface="Times New Roman"/>
            </a:endParaRPr>
          </a:p>
        </p:txBody>
      </p:sp>
      <p:pic>
        <p:nvPicPr>
          <p:cNvPr id="95" name="Picture 3" descr="1206572119215038269johnny_automatic_NPS_map_pictographs_part_68_svg_med.png"/>
          <p:cNvPicPr/>
          <p:nvPr/>
        </p:nvPicPr>
        <p:blipFill>
          <a:blip r:embed="rId1"/>
          <a:stretch/>
        </p:blipFill>
        <p:spPr>
          <a:xfrm>
            <a:off x="3352680" y="4989600"/>
            <a:ext cx="1676520" cy="1676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Facilitating the Victim Narrative</a:t>
            </a:r>
            <a:endParaRPr b="0" lang="en-US" sz="4000" spc="-1" strike="noStrike">
              <a:solidFill>
                <a:srgbClr val="003366"/>
              </a:solidFill>
              <a:latin typeface="Arial"/>
            </a:endParaRPr>
          </a:p>
        </p:txBody>
      </p:sp>
      <p:sp>
        <p:nvSpPr>
          <p:cNvPr id="162" name=""/>
          <p:cNvSpPr txBox="1"/>
          <p:nvPr/>
        </p:nvSpPr>
        <p:spPr>
          <a:xfrm>
            <a:off x="685800" y="1447560"/>
            <a:ext cx="7772400" cy="5105160"/>
          </a:xfrm>
          <a:prstGeom prst="rect">
            <a:avLst/>
          </a:prstGeom>
          <a:noFill/>
          <a:ln w="0">
            <a:noFill/>
          </a:ln>
        </p:spPr>
        <p:txBody>
          <a:bodyPr anchor="t">
            <a:normAutofit/>
          </a:bodyPr>
          <a:p>
            <a:pPr marL="272880" indent="-2728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Begin an interview by allowing the victim to relay the incident without interruption or prompting</a:t>
            </a:r>
            <a:endParaRPr b="0" lang="en-US" sz="2600" spc="-1" strike="noStrike">
              <a:solidFill>
                <a:srgbClr val="003366"/>
              </a:solidFill>
              <a:latin typeface="Times New Roman"/>
            </a:endParaRPr>
          </a:p>
          <a:p>
            <a:pPr marL="272880" indent="-2728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void breaking the victim’s train of thought</a:t>
            </a:r>
            <a:endParaRPr b="0" lang="en-US" sz="2600" spc="-1" strike="noStrike">
              <a:solidFill>
                <a:srgbClr val="003366"/>
              </a:solidFill>
              <a:latin typeface="Times New Roman"/>
            </a:endParaRPr>
          </a:p>
          <a:p>
            <a:pPr marL="272880" indent="-2728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 study shows that</a:t>
            </a:r>
            <a:endParaRPr b="0" lang="en-US" sz="2600" spc="-1" strike="noStrike">
              <a:solidFill>
                <a:srgbClr val="003366"/>
              </a:solidFill>
              <a:latin typeface="Times New Roman"/>
            </a:endParaRPr>
          </a:p>
          <a:p>
            <a:pPr lvl="1" marL="565200" indent="-285840">
              <a:lnSpc>
                <a:spcPct val="90000"/>
              </a:lnSpc>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Law enforcement averaged 3 open-ended questions and 28 closed-ended questions with a 1 second pause between questions</a:t>
            </a:r>
            <a:endParaRPr b="0" lang="en-US" sz="2200" spc="-1" strike="noStrike">
              <a:solidFill>
                <a:srgbClr val="003366"/>
              </a:solidFill>
              <a:latin typeface="Times New Roman"/>
            </a:endParaRPr>
          </a:p>
          <a:p>
            <a:pPr lvl="1" marL="565200" indent="-285840">
              <a:lnSpc>
                <a:spcPct val="90000"/>
              </a:lnSpc>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Responses to open-ended questions were interrupted after 7.8 seconds, with an average of 4 interruptions per response</a:t>
            </a:r>
            <a:endParaRPr b="0" lang="en-US" sz="2200" spc="-1" strike="noStrike">
              <a:solidFill>
                <a:srgbClr val="003366"/>
              </a:solidFill>
              <a:latin typeface="Times New Roman"/>
            </a:endParaRPr>
          </a:p>
          <a:p>
            <a:pPr marL="272880" indent="-2728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Begin the interview at a logical starting place</a:t>
            </a:r>
            <a:endParaRPr b="0" lang="en-US" sz="2600" spc="-1" strike="noStrike">
              <a:solidFill>
                <a:srgbClr val="003366"/>
              </a:solidFill>
              <a:latin typeface="Times New Roman"/>
            </a:endParaRPr>
          </a:p>
          <a:p>
            <a:pPr marL="272880" indent="-2728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Use open-ended questions and prompts to facilitate</a:t>
            </a:r>
            <a:endParaRPr b="0" lang="en-US" sz="2600" spc="-1" strike="noStrike">
              <a:solidFill>
                <a:srgbClr val="003366"/>
              </a:solidFill>
              <a:latin typeface="Times New Roman"/>
            </a:endParaRPr>
          </a:p>
        </p:txBody>
      </p:sp>
      <p:sp>
        <p:nvSpPr>
          <p:cNvPr id="163" name="TextBox 3"/>
          <p:cNvSpPr/>
          <p:nvPr/>
        </p:nvSpPr>
        <p:spPr>
          <a:xfrm>
            <a:off x="762120" y="6172200"/>
            <a:ext cx="7924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ea typeface="MS PGothic"/>
              </a:rPr>
              <a:t>Source: Maryland Coalition Against Sexual Assault, Sexual Assault In-Service Training for Maryland Law Enforcement Officers</a:t>
            </a:r>
            <a:endParaRPr b="0" lang="en-US" sz="9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3"/>
          <p:cNvGrpSpPr/>
          <p:nvPr/>
        </p:nvGrpSpPr>
        <p:grpSpPr>
          <a:xfrm>
            <a:off x="927000" y="871560"/>
            <a:ext cx="7435800" cy="4767120"/>
            <a:chOff x="927000" y="871560"/>
            <a:chExt cx="7435800" cy="4767120"/>
          </a:xfrm>
        </p:grpSpPr>
        <p:pic>
          <p:nvPicPr>
            <p:cNvPr id="165" name="Rounded Rectangle 3" descr=""/>
            <p:cNvPicPr/>
            <p:nvPr/>
          </p:nvPicPr>
          <p:blipFill>
            <a:blip r:embed="rId1"/>
            <a:stretch/>
          </p:blipFill>
          <p:spPr>
            <a:xfrm>
              <a:off x="927000" y="871560"/>
              <a:ext cx="7435800" cy="4767120"/>
            </a:xfrm>
            <a:prstGeom prst="rect">
              <a:avLst/>
            </a:prstGeom>
            <a:ln w="0">
              <a:noFill/>
            </a:ln>
          </p:spPr>
        </p:pic>
        <p:sp>
          <p:nvSpPr>
            <p:cNvPr id="166" name=""/>
            <p:cNvSpPr/>
            <p:nvPr/>
          </p:nvSpPr>
          <p:spPr>
            <a:xfrm>
              <a:off x="1424160" y="1347840"/>
              <a:ext cx="6448320" cy="37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nstantia"/>
                </a:rPr>
                <a:t>In a research study conducted by Fischer (1995), detectives were aware that constantly interrupting a victim or witness was a common interviewing mistake but denied that they personally did so.  Only after listening to an audiotape of their own interviewing technique did these detectives realize how often they did interrupt victims and witnesses and become motivated to correct the behavior.</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Facilitating the Victim Narrative</a:t>
            </a:r>
            <a:endParaRPr b="0" lang="en-US" sz="4000" spc="-1" strike="noStrike">
              <a:solidFill>
                <a:srgbClr val="003366"/>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272880" indent="-272880">
              <a:lnSpc>
                <a:spcPct val="90000"/>
              </a:lnSpc>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Use open-ended questions and prompts to facilitate information gathering</a:t>
            </a:r>
            <a:endParaRPr b="0" lang="en-US" sz="2800" spc="-1" strike="noStrike">
              <a:solidFill>
                <a:srgbClr val="003366"/>
              </a:solidFill>
              <a:latin typeface="Times New Roman"/>
            </a:endParaRPr>
          </a:p>
          <a:p>
            <a:pPr lvl="1" marL="639720" indent="-2728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hat do you remember next?</a:t>
            </a:r>
            <a:endParaRPr b="0" lang="en-US" sz="2400" spc="-1" strike="noStrike">
              <a:solidFill>
                <a:srgbClr val="003366"/>
              </a:solidFill>
              <a:latin typeface="Times New Roman"/>
            </a:endParaRPr>
          </a:p>
          <a:p>
            <a:pPr lvl="1" marL="639720" indent="-2728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hat did you do then?</a:t>
            </a:r>
            <a:endParaRPr b="0" lang="en-US" sz="2400" spc="-1" strike="noStrike">
              <a:solidFill>
                <a:srgbClr val="003366"/>
              </a:solidFill>
              <a:latin typeface="Times New Roman"/>
            </a:endParaRPr>
          </a:p>
          <a:p>
            <a:pPr lvl="1" marL="639720" indent="-2728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ow did you feel when that happened?</a:t>
            </a:r>
            <a:endParaRPr b="0" lang="en-US" sz="2400" spc="-1" strike="noStrike">
              <a:solidFill>
                <a:srgbClr val="003366"/>
              </a:solidFill>
              <a:latin typeface="Times New Roman"/>
            </a:endParaRPr>
          </a:p>
          <a:p>
            <a:pPr lvl="1" marL="639720" indent="-2728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n you tell me more about that?</a:t>
            </a:r>
            <a:endParaRPr b="0" lang="en-US" sz="2400" spc="-1" strike="noStrike">
              <a:solidFill>
                <a:srgbClr val="003366"/>
              </a:solidFill>
              <a:latin typeface="Times New Roman"/>
            </a:endParaRPr>
          </a:p>
          <a:p>
            <a:pPr lvl="1" marL="639720" indent="-2728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hat else happened?</a:t>
            </a:r>
            <a:endParaRPr b="0" lang="en-US" sz="2400" spc="-1" strike="noStrike">
              <a:solidFill>
                <a:srgbClr val="003366"/>
              </a:solidFill>
              <a:latin typeface="Times New Roman"/>
            </a:endParaRPr>
          </a:p>
          <a:p>
            <a:pPr marL="272880" indent="-2728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2735-97D9-47C3-9CDF-C9580554B36E}"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cilitating the Victim Narrative</a:t>
            </a:r>
            <a:endParaRPr b="0" lang="en-US" sz="4000" spc="-1" strike="noStrike">
              <a:solidFill>
                <a:srgbClr val="003366"/>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272880" indent="-272880">
              <a:lnSpc>
                <a:spcPct val="110000"/>
              </a:lnSpc>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o not ask questions that assume facts not yet offered by the victim.</a:t>
            </a:r>
            <a:endParaRPr b="0" lang="en-US" sz="3200" spc="-1" strike="noStrike">
              <a:solidFill>
                <a:srgbClr val="003366"/>
              </a:solidFill>
              <a:latin typeface="Times New Roman"/>
            </a:endParaRPr>
          </a:p>
          <a:p>
            <a:pPr lvl="1" marL="639720" indent="-272880">
              <a:lnSpc>
                <a:spcPct val="11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s that when he raped you?</a:t>
            </a:r>
            <a:endParaRPr b="0" lang="en-US" sz="3200" spc="-1" strike="noStrike">
              <a:solidFill>
                <a:srgbClr val="003366"/>
              </a:solidFill>
              <a:latin typeface="Times New Roman"/>
            </a:endParaRPr>
          </a:p>
          <a:p>
            <a:pPr lvl="1" marL="639720" indent="-272880">
              <a:lnSpc>
                <a:spcPct val="11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at did he do that was threatening?</a:t>
            </a:r>
            <a:endParaRPr b="0" lang="en-US" sz="3200" spc="-1" strike="noStrike">
              <a:solidFill>
                <a:srgbClr val="003366"/>
              </a:solidFill>
              <a:latin typeface="Times New Roman"/>
            </a:endParaRPr>
          </a:p>
          <a:p>
            <a:pPr lvl="1" marL="639720" indent="-272880">
              <a:lnSpc>
                <a:spcPct val="11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at did he hit you with?</a:t>
            </a:r>
            <a:endParaRPr b="0" lang="en-US" sz="3200" spc="-1" strike="noStrike">
              <a:solidFill>
                <a:srgbClr val="003366"/>
              </a:solidFill>
              <a:latin typeface="Times New Roman"/>
            </a:endParaRPr>
          </a:p>
          <a:p>
            <a:pPr marL="272880" indent="-2728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709E-4645-4D79-89FE-81AE67E3A9B6}"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Asking Specific Questions</a:t>
            </a:r>
            <a:endParaRPr b="0" lang="en-US" sz="4000" spc="-1" strike="noStrike">
              <a:solidFill>
                <a:srgbClr val="003366"/>
              </a:solidFill>
              <a:latin typeface="Arial"/>
            </a:endParaRPr>
          </a:p>
        </p:txBody>
      </p:sp>
      <p:sp>
        <p:nvSpPr>
          <p:cNvPr id="17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36A1-C5BB-4FDC-8467-C67718387BD8}"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
        <p:nvSpPr>
          <p:cNvPr id="175" name="TextBox 7"/>
          <p:cNvSpPr/>
          <p:nvPr/>
        </p:nvSpPr>
        <p:spPr>
          <a:xfrm>
            <a:off x="533520" y="1676520"/>
            <a:ext cx="8076960" cy="448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1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MS PGothic"/>
              </a:rPr>
              <a:t>Avoid asking questions that solicit yes or no answers</a:t>
            </a:r>
            <a:endParaRPr b="0" lang="en-US" sz="32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100000"/>
              </a:lnSpc>
              <a:buClr>
                <a:srgbClr val="001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MS PGothic"/>
              </a:rPr>
              <a:t>Use the information given in the statement to formulate questions for more details</a:t>
            </a:r>
            <a:endParaRPr b="0" lang="en-US" sz="32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100000"/>
              </a:lnSpc>
              <a:buClr>
                <a:srgbClr val="001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MS PGothic"/>
              </a:rPr>
              <a:t>Use cues from your victim to determine what types of questions are appropriate for your victim</a:t>
            </a:r>
            <a:endParaRPr b="0" lang="en-US" sz="32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Trauma and Memory</a:t>
            </a:r>
            <a:endParaRPr b="0" lang="en-US" sz="4000" spc="-1" strike="noStrike">
              <a:solidFill>
                <a:srgbClr val="003366"/>
              </a:solidFill>
              <a:latin typeface="Arial"/>
            </a:endParaRPr>
          </a:p>
        </p:txBody>
      </p:sp>
      <p:sp>
        <p:nvSpPr>
          <p:cNvPr id="177" name=""/>
          <p:cNvSpPr txBox="1"/>
          <p:nvPr/>
        </p:nvSpPr>
        <p:spPr>
          <a:xfrm>
            <a:off x="457200" y="1447920"/>
            <a:ext cx="8229600" cy="5029200"/>
          </a:xfrm>
          <a:prstGeom prst="rect">
            <a:avLst/>
          </a:prstGeom>
          <a:solidFill>
            <a:srgbClr val="ddeaea"/>
          </a:solidFill>
          <a:ln w="9360">
            <a:solidFill>
              <a:srgbClr val="ffffff"/>
            </a:solidFill>
            <a:miter/>
          </a:ln>
        </p:spPr>
        <p:txBody>
          <a:bodyPr anchor="t">
            <a:normAutofit/>
          </a:bodyPr>
          <a:p>
            <a:pPr marL="34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vestigative tip: disclosure is a process, not an event.</a:t>
            </a:r>
            <a:endParaRPr b="0" lang="en-US" sz="2800" spc="-1" strike="noStrike">
              <a:solidFill>
                <a:srgbClr val="003366"/>
              </a:solidFill>
              <a:latin typeface="Times New Roman"/>
            </a:endParaRPr>
          </a:p>
          <a:p>
            <a:pPr lvl="1" marL="722160" indent="-285480">
              <a:lnSpc>
                <a:spcPct val="80000"/>
              </a:lnSpc>
              <a:spcBef>
                <a:spcPts val="601"/>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complete statements are the norm</a:t>
            </a:r>
            <a:endParaRPr b="0" lang="en-US" sz="2400" spc="-1" strike="noStrike">
              <a:solidFill>
                <a:srgbClr val="003366"/>
              </a:solidFill>
              <a:latin typeface="Times New Roman"/>
            </a:endParaRPr>
          </a:p>
          <a:p>
            <a:pPr marL="349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rauma changes the memory path in the brain – two issues exist for memory:</a:t>
            </a:r>
            <a:endParaRPr b="0" lang="en-US" sz="2800" spc="-1" strike="noStrike">
              <a:solidFill>
                <a:srgbClr val="003366"/>
              </a:solidFill>
              <a:latin typeface="Times New Roman"/>
            </a:endParaRPr>
          </a:p>
          <a:p>
            <a:pPr lvl="1" marL="722160" indent="-285480">
              <a:lnSpc>
                <a:spcPct val="80000"/>
              </a:lnSpc>
              <a:spcBef>
                <a:spcPts val="601"/>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ur ability to </a:t>
            </a:r>
            <a:r>
              <a:rPr b="1" lang="en-US" sz="2400" spc="-1" strike="noStrike">
                <a:solidFill>
                  <a:srgbClr val="003366"/>
                </a:solidFill>
                <a:latin typeface="Times New Roman"/>
              </a:rPr>
              <a:t>record</a:t>
            </a:r>
            <a:r>
              <a:rPr b="0" lang="en-US" sz="2400" spc="-1" strike="noStrike">
                <a:solidFill>
                  <a:srgbClr val="003366"/>
                </a:solidFill>
                <a:latin typeface="Times New Roman"/>
              </a:rPr>
              <a:t> the data</a:t>
            </a:r>
            <a:endParaRPr b="0" lang="en-US" sz="2400" spc="-1" strike="noStrike">
              <a:solidFill>
                <a:srgbClr val="003366"/>
              </a:solidFill>
              <a:latin typeface="Times New Roman"/>
            </a:endParaRPr>
          </a:p>
          <a:p>
            <a:pPr lvl="1" marL="722160" indent="-285480">
              <a:lnSpc>
                <a:spcPct val="80000"/>
              </a:lnSpc>
              <a:spcBef>
                <a:spcPts val="601"/>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ur ability to </a:t>
            </a:r>
            <a:r>
              <a:rPr b="1" lang="en-US" sz="2400" spc="-1" strike="noStrike">
                <a:solidFill>
                  <a:srgbClr val="003366"/>
                </a:solidFill>
                <a:latin typeface="Times New Roman"/>
              </a:rPr>
              <a:t>retrieve</a:t>
            </a:r>
            <a:r>
              <a:rPr b="0" lang="en-US" sz="2400" spc="-1" strike="noStrike">
                <a:solidFill>
                  <a:srgbClr val="003366"/>
                </a:solidFill>
                <a:latin typeface="Times New Roman"/>
              </a:rPr>
              <a:t> the data</a:t>
            </a:r>
            <a:endParaRPr b="0" lang="en-US" sz="2400" spc="-1" strike="noStrike">
              <a:solidFill>
                <a:srgbClr val="003366"/>
              </a:solidFill>
              <a:latin typeface="Times New Roman"/>
            </a:endParaRPr>
          </a:p>
          <a:p>
            <a:pPr marL="34920">
              <a:lnSpc>
                <a:spcPct val="80000"/>
              </a:lnSpc>
              <a:spcBef>
                <a:spcPts val="751"/>
              </a:spcBef>
              <a:buClr>
                <a:srgbClr val="0033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92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Trauma impacts </a:t>
            </a:r>
            <a:r>
              <a:rPr b="1" lang="en-US" sz="3000" spc="-1" strike="noStrike">
                <a:solidFill>
                  <a:srgbClr val="003366"/>
                </a:solidFill>
                <a:latin typeface="Times New Roman"/>
              </a:rPr>
              <a:t>both</a:t>
            </a:r>
            <a:r>
              <a:rPr b="0" lang="en-US" sz="3000" spc="-1" strike="noStrike">
                <a:solidFill>
                  <a:srgbClr val="003366"/>
                </a:solidFill>
                <a:latin typeface="Times New Roman"/>
              </a:rPr>
              <a:t> our ability to record </a:t>
            </a:r>
            <a:r>
              <a:rPr b="1" lang="en-US" sz="3000" spc="-1" strike="noStrike">
                <a:solidFill>
                  <a:srgbClr val="003366"/>
                </a:solidFill>
                <a:latin typeface="Times New Roman"/>
              </a:rPr>
              <a:t>and</a:t>
            </a:r>
            <a:r>
              <a:rPr b="0" lang="en-US" sz="3000" spc="-1" strike="noStrike">
                <a:solidFill>
                  <a:srgbClr val="003366"/>
                </a:solidFill>
                <a:latin typeface="Times New Roman"/>
              </a:rPr>
              <a:t> retrieve information and details related to a traumatic event.</a:t>
            </a:r>
            <a:endParaRPr b="0" lang="en-US" sz="3000" spc="-1" strike="noStrike">
              <a:solidFill>
                <a:srgbClr val="003366"/>
              </a:solidFill>
              <a:latin typeface="Times New Roman"/>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8581-2675-47AD-A177-BFC8381A2143}" type="slidenum">
              <a:rPr b="0" lang="en-US" sz="1200" spc="-1" strike="noStrike">
                <a:solidFill>
                  <a:srgbClr val="898fa0"/>
                </a:solidFill>
                <a:latin typeface="Times New Roman"/>
              </a:rPr>
              <a:t>&lt;number&gt;</a:t>
            </a:fld>
            <a:endParaRPr b="0" lang="en-US" sz="12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mpact on Interview?</a:t>
            </a:r>
            <a:endParaRPr b="0" lang="en-US" sz="4400" spc="-1" strike="noStrike">
              <a:solidFill>
                <a:srgbClr val="003366"/>
              </a:solidFill>
              <a:latin typeface="Arial"/>
            </a:endParaRPr>
          </a:p>
        </p:txBody>
      </p:sp>
      <p:sp>
        <p:nvSpPr>
          <p:cNvPr id="180" name=""/>
          <p:cNvSpPr txBox="1"/>
          <p:nvPr/>
        </p:nvSpPr>
        <p:spPr>
          <a:xfrm>
            <a:off x="380880" y="1523520"/>
            <a:ext cx="8229600" cy="4854600"/>
          </a:xfrm>
          <a:prstGeom prst="rect">
            <a:avLst/>
          </a:prstGeom>
          <a:noFill/>
          <a:ln w="0">
            <a:noFill/>
          </a:ln>
        </p:spPr>
        <p:txBody>
          <a:bodyPr anchor="t">
            <a:normAutofit/>
          </a:bodyPr>
          <a:p>
            <a:pPr marL="457200" indent="-45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o we expect victims to remember what occurred when an event is reported?</a:t>
            </a:r>
            <a:endParaRPr b="0" lang="en-US" sz="2800" spc="-1" strike="noStrike">
              <a:solidFill>
                <a:srgbClr val="003366"/>
              </a:solidFill>
              <a:latin typeface="Times New Roman"/>
            </a:endParaRPr>
          </a:p>
          <a:p>
            <a:pPr marL="457200" indent="-45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o we understand the way the primitive brain works and how it can impact memory?</a:t>
            </a:r>
            <a:endParaRPr b="0" lang="en-US" sz="2800" spc="-1" strike="noStrike">
              <a:solidFill>
                <a:srgbClr val="003366"/>
              </a:solidFill>
              <a:latin typeface="Times New Roman"/>
            </a:endParaRPr>
          </a:p>
          <a:p>
            <a:pPr marL="457200" indent="-45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ight the victim perceive (whether real or not) that there is pressure to provide a complete narrative?</a:t>
            </a:r>
            <a:endParaRPr b="0" lang="en-US" sz="2800" spc="-1" strike="noStrike">
              <a:solidFill>
                <a:srgbClr val="003366"/>
              </a:solidFill>
              <a:latin typeface="Times New Roman"/>
            </a:endParaRPr>
          </a:p>
          <a:p>
            <a:pPr marL="457200" indent="-45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at steps might we take to inhibit victims from feeling they must fill in the blanks?</a:t>
            </a:r>
            <a:endParaRPr b="0" lang="en-US" sz="2800" spc="-1" strike="noStrike">
              <a:solidFill>
                <a:srgbClr val="003366"/>
              </a:solidFill>
              <a:latin typeface="Times New Roman"/>
            </a:endParaRPr>
          </a:p>
          <a:p>
            <a:pPr marL="457200" indent="-45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at lessons can we take away when it comes to the credibility of sexual assault victim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Second Stage: </a:t>
            </a:r>
            <a:br>
              <a:rPr sz="4000"/>
            </a:br>
            <a:r>
              <a:rPr b="0" lang="en-US" sz="4000" spc="-1" strike="noStrike">
                <a:solidFill>
                  <a:srgbClr val="00264d"/>
                </a:solidFill>
                <a:latin typeface="Arial"/>
              </a:rPr>
              <a:t>Follow-up Questions</a:t>
            </a:r>
            <a:endParaRPr b="0" lang="en-US" sz="4000" spc="-1" strike="noStrike">
              <a:solidFill>
                <a:srgbClr val="003366"/>
              </a:solidFill>
              <a:latin typeface="Arial"/>
            </a:endParaRPr>
          </a:p>
        </p:txBody>
      </p:sp>
      <p:sp>
        <p:nvSpPr>
          <p:cNvPr id="18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Ask for </a:t>
            </a:r>
            <a:r>
              <a:rPr b="0" lang="en-US" sz="2700" spc="-1" strike="noStrike">
                <a:solidFill>
                  <a:srgbClr val="003366"/>
                </a:solidFill>
                <a:latin typeface="Times New Roman"/>
                <a:ea typeface="MS PMincho"/>
              </a:rPr>
              <a:t>“clarification” on specific points – take responsibility for getting it right</a:t>
            </a:r>
            <a:endParaRPr b="0" lang="en-US" sz="2700" spc="-1" strike="noStrike">
              <a:solidFill>
                <a:srgbClr val="003366"/>
              </a:solidFill>
              <a:latin typeface="Times New Roman"/>
            </a:endParaRPr>
          </a:p>
          <a:p>
            <a:pPr marL="325800" indent="-32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Times New Roman"/>
            </a:endParaRPr>
          </a:p>
          <a:p>
            <a:pPr marL="325800" indent="-325800">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Use open-ended prompts and avoid interrupting</a:t>
            </a:r>
            <a:endParaRPr b="0" lang="en-US" sz="2700" spc="-1" strike="noStrike">
              <a:solidFill>
                <a:srgbClr val="003366"/>
              </a:solidFill>
              <a:latin typeface="Times New Roman"/>
            </a:endParaRPr>
          </a:p>
          <a:p>
            <a:pPr marL="325800" indent="-32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Times New Roman"/>
            </a:endParaRPr>
          </a:p>
          <a:p>
            <a:pPr marL="325800" indent="-325800">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Avoid inappropriate sequencing</a:t>
            </a:r>
            <a:endParaRPr b="0" lang="en-US" sz="2700" spc="-1" strike="noStrike">
              <a:solidFill>
                <a:srgbClr val="003366"/>
              </a:solidFill>
              <a:latin typeface="Times New Roman"/>
            </a:endParaRPr>
          </a:p>
          <a:p>
            <a:pPr marL="325800" indent="-32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Times New Roman"/>
            </a:endParaRPr>
          </a:p>
          <a:p>
            <a:pPr marL="325800" indent="-325800">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Conclude by asking the victim if there is anything else she/he would like to add, or anything you forgot to ask her/him</a:t>
            </a:r>
            <a:endParaRPr b="0" lang="en-US" sz="2700" spc="-1" strike="noStrike">
              <a:solidFill>
                <a:srgbClr val="003366"/>
              </a:solidFill>
              <a:latin typeface="Times New Roman"/>
            </a:endParaRPr>
          </a:p>
          <a:p>
            <a:pPr marL="325800" indent="-325800">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5800" indent="-325800">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32B3-29ED-417A-A06E-A7780FA9375B}"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Avoid Victim Blaming Questions</a:t>
            </a:r>
            <a:endParaRPr b="0" lang="en-US" sz="4000" spc="-1" strike="noStrike">
              <a:solidFill>
                <a:srgbClr val="003366"/>
              </a:solidFill>
              <a:latin typeface="Arial"/>
            </a:endParaRPr>
          </a:p>
        </p:txBody>
      </p:sp>
      <p:sp>
        <p:nvSpPr>
          <p:cNvPr id="185" name=""/>
          <p:cNvSpPr txBox="1"/>
          <p:nvPr/>
        </p:nvSpPr>
        <p:spPr>
          <a:xfrm>
            <a:off x="457200" y="1371600"/>
            <a:ext cx="8229600" cy="4525920"/>
          </a:xfrm>
          <a:prstGeom prst="rect">
            <a:avLst/>
          </a:prstGeom>
          <a:noFill/>
          <a:ln w="0">
            <a:noFill/>
          </a:ln>
        </p:spPr>
        <p:txBody>
          <a:bodyPr anchor="t">
            <a:normAutofit fontScale="88000"/>
          </a:bodyPr>
          <a:p>
            <a:pPr marL="301680" indent="-3016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stead of:</a:t>
            </a:r>
            <a:endParaRPr b="0" lang="en-US" sz="3200" spc="-1" strike="noStrike">
              <a:solidFill>
                <a:srgbClr val="003366"/>
              </a:solidFill>
              <a:latin typeface="Times New Roman"/>
            </a:endParaRPr>
          </a:p>
          <a:p>
            <a:pPr marL="301680" indent="-3016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Why did you wait so long before disclosing?”</a:t>
            </a:r>
            <a:endParaRPr b="0" lang="en-US" sz="3200" spc="-1" strike="noStrike">
              <a:solidFill>
                <a:srgbClr val="003366"/>
              </a:solidFill>
              <a:latin typeface="Times New Roman"/>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1680" indent="-3016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sk:</a:t>
            </a:r>
            <a:endParaRPr b="0" lang="en-US" sz="3200" spc="-1" strike="noStrike">
              <a:solidFill>
                <a:srgbClr val="003366"/>
              </a:solidFill>
              <a:latin typeface="Times New Roman"/>
            </a:endParaRPr>
          </a:p>
          <a:p>
            <a:pPr marL="301680" indent="-3016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This must have been a tough decision to call us.  Can you tell me about what made you decide to call us today?”</a:t>
            </a:r>
            <a:endParaRPr b="0" lang="en-US" sz="3200" spc="-1" strike="noStrike">
              <a:solidFill>
                <a:srgbClr val="003366"/>
              </a:solidFill>
              <a:latin typeface="Times New Roman"/>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55D5-F78A-4A4A-8866-16895FC4055C}" type="slidenum">
              <a:rPr b="0" lang="en-US" sz="1200" spc="-1" strike="noStrike">
                <a:solidFill>
                  <a:srgbClr val="898fa0"/>
                </a:solidFill>
                <a:latin typeface="Times New Roman"/>
              </a:rPr>
              <a:t>&lt;number&gt;</a:t>
            </a:fld>
            <a:endParaRPr b="0" lang="en-US" sz="1200" spc="-1" strike="noStrike">
              <a:solidFill>
                <a:srgbClr val="003366"/>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Avoid Victim Blaming Questions</a:t>
            </a:r>
            <a:endParaRPr b="0" lang="en-US" sz="4000" spc="-1" strike="noStrike">
              <a:solidFill>
                <a:srgbClr val="003366"/>
              </a:solidFill>
              <a:latin typeface="Arial"/>
            </a:endParaRPr>
          </a:p>
        </p:txBody>
      </p:sp>
      <p:sp>
        <p:nvSpPr>
          <p:cNvPr id="188" name=""/>
          <p:cNvSpPr txBox="1"/>
          <p:nvPr/>
        </p:nvSpPr>
        <p:spPr>
          <a:xfrm>
            <a:off x="457200" y="1447560"/>
            <a:ext cx="8229600" cy="4678200"/>
          </a:xfrm>
          <a:prstGeom prst="rect">
            <a:avLst/>
          </a:prstGeom>
          <a:noFill/>
          <a:ln w="0">
            <a:noFill/>
          </a:ln>
        </p:spPr>
        <p:txBody>
          <a:bodyPr anchor="t">
            <a:normAutofit fontScale="94000"/>
          </a:bodyPr>
          <a:p>
            <a:pPr marL="322200" indent="-3222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stead of:</a:t>
            </a:r>
            <a:endParaRPr b="0" lang="en-US" sz="3200" spc="-1" strike="noStrike">
              <a:solidFill>
                <a:srgbClr val="003366"/>
              </a:solidFill>
              <a:latin typeface="Times New Roman"/>
            </a:endParaRPr>
          </a:p>
          <a:p>
            <a:pPr marL="322200" indent="-3222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Why didn’t you scream or fight back?”</a:t>
            </a:r>
            <a:endParaRPr b="0" lang="en-US" sz="3200" spc="-1" strike="noStrike">
              <a:solidFill>
                <a:srgbClr val="003366"/>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2200" indent="-3222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sk:</a:t>
            </a:r>
            <a:endParaRPr b="0" lang="en-US" sz="3200" spc="-1" strike="noStrike">
              <a:solidFill>
                <a:srgbClr val="003366"/>
              </a:solidFill>
              <a:latin typeface="Times New Roman"/>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Were you able to say anything to him?  What did you think may happen if you did?  What were you thinking and feeling when it was happening?”</a:t>
            </a:r>
            <a:endParaRPr b="0" lang="en-US" sz="3200" spc="-1" strike="noStrike">
              <a:solidFill>
                <a:srgbClr val="003366"/>
              </a:solidFill>
              <a:latin typeface="Times New Roman"/>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A6AF-56EE-4C36-BD32-0C7087232DDD}" type="slidenum">
              <a:rPr b="0" lang="en-US" sz="1200" spc="-1" strike="noStrike">
                <a:solidFill>
                  <a:srgbClr val="898fa0"/>
                </a:solidFill>
                <a:latin typeface="Times New Roman"/>
              </a:rPr>
              <a:t>&lt;number&gt;</a:t>
            </a:fld>
            <a:endParaRPr b="0" lang="en-US" sz="1200" spc="-1" strike="noStrike">
              <a:solidFill>
                <a:srgbClr val="003366"/>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8">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fessional Goals</a:t>
            </a:r>
            <a:endParaRPr b="0" lang="en-US" sz="4400" spc="-1" strike="noStrike">
              <a:solidFill>
                <a:srgbClr val="003366"/>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aw Enforcement</a:t>
            </a:r>
            <a:endParaRPr b="0" lang="en-US" sz="40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r>
              <a:rPr b="0" i="1" lang="en-US" sz="3200" spc="-1" strike="noStrike">
                <a:solidFill>
                  <a:srgbClr val="003366"/>
                </a:solidFill>
                <a:latin typeface="Times New Roman"/>
              </a:rPr>
              <a:t>To protect and serve </a:t>
            </a:r>
            <a:r>
              <a:rPr b="0" i="1" lang="en-US" sz="3200" spc="-1" strike="noStrike" u="sng">
                <a:solidFill>
                  <a:srgbClr val="003366"/>
                </a:solidFill>
                <a:uFillTx/>
                <a:latin typeface="Times New Roman"/>
              </a:rPr>
              <a:t>citizens and victims</a:t>
            </a:r>
            <a:r>
              <a:rPr b="0" i="1"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Times New Roman"/>
              </a:rPr>
              <a:t>	</a:t>
            </a:r>
            <a:r>
              <a:rPr b="0" i="1" lang="en-US" sz="3200" spc="-1" strike="noStrike">
                <a:solidFill>
                  <a:srgbClr val="003366"/>
                </a:solidFill>
                <a:latin typeface="Times New Roman"/>
              </a:rPr>
              <a:t>- To keep </a:t>
            </a:r>
            <a:r>
              <a:rPr b="0" i="1" lang="en-US" sz="3200" spc="-1" strike="noStrike" u="sng">
                <a:solidFill>
                  <a:srgbClr val="003366"/>
                </a:solidFill>
                <a:uFillTx/>
                <a:latin typeface="Times New Roman"/>
              </a:rPr>
              <a:t>citizens and victims</a:t>
            </a:r>
            <a:r>
              <a:rPr b="0" i="1" lang="en-US" sz="3200" spc="-1" strike="noStrike">
                <a:solidFill>
                  <a:srgbClr val="003366"/>
                </a:solidFill>
                <a:latin typeface="Times New Roman"/>
              </a:rPr>
              <a:t> safe…</a:t>
            </a:r>
            <a:endParaRPr b="0" lang="en-US" sz="32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Times New Roman"/>
              </a:rPr>
              <a:t>	</a:t>
            </a:r>
            <a:r>
              <a:rPr b="0" i="1" lang="en-US" sz="3200" spc="-1" strike="noStrike">
                <a:solidFill>
                  <a:srgbClr val="003366"/>
                </a:solidFill>
                <a:latin typeface="Times New Roman"/>
              </a:rPr>
              <a:t>- To uphold the law…</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Information to Obtain</a:t>
            </a:r>
            <a:endParaRPr b="0" lang="en-US" sz="4000" spc="-1" strike="noStrike">
              <a:solidFill>
                <a:srgbClr val="003366"/>
              </a:solidFill>
              <a:latin typeface="Arial"/>
            </a:endParaRPr>
          </a:p>
        </p:txBody>
      </p:sp>
      <p:sp>
        <p:nvSpPr>
          <p:cNvPr id="191" name=""/>
          <p:cNvSpPr txBox="1"/>
          <p:nvPr/>
        </p:nvSpPr>
        <p:spPr>
          <a:xfrm>
            <a:off x="457200" y="1676160"/>
            <a:ext cx="8229600" cy="480060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ctions of the victim and suspec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ow the victim felt, what the victim believed</a:t>
            </a:r>
            <a:endParaRPr b="0" lang="en-US" sz="32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erceived threats or use of forc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nsory details – sound, smell, touch, sigh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Use of force or threat</a:t>
            </a:r>
            <a:endParaRPr b="0" lang="en-US" sz="32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59ED-F817-4DD5-92E0-812A4ADB1998}"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64d"/>
                </a:solidFill>
                <a:latin typeface="Arial"/>
              </a:rPr>
              <a:t>Information to Obtain</a:t>
            </a:r>
            <a:endParaRPr b="0" lang="en-US" sz="4400" spc="-1" strike="noStrike">
              <a:solidFill>
                <a:srgbClr val="003366"/>
              </a:solidFill>
              <a:latin typeface="Arial"/>
            </a:endParaRPr>
          </a:p>
        </p:txBody>
      </p:sp>
      <p:sp>
        <p:nvSpPr>
          <p:cNvPr id="194"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uspect’s </a:t>
            </a:r>
            <a:r>
              <a:rPr b="0" lang="en-US" sz="3200" spc="-1" strike="noStrike">
                <a:solidFill>
                  <a:srgbClr val="003366"/>
                </a:solidFill>
                <a:latin typeface="Times New Roman"/>
                <a:ea typeface="MS PMincho"/>
              </a:rPr>
              <a:t>sexual behavior</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ocumenting specific sexual act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at does the victim remember about the suspect’s behavior and demeanor before, during, and after the assaul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Information to Obtain</a:t>
            </a:r>
            <a:endParaRPr b="0" lang="en-US" sz="4000" spc="-1" strike="noStrike">
              <a:solidFill>
                <a:srgbClr val="003366"/>
              </a:solidFill>
              <a:latin typeface="Arial"/>
            </a:endParaRPr>
          </a:p>
        </p:txBody>
      </p:sp>
      <p:sp>
        <p:nvSpPr>
          <p:cNvPr id="196" name=""/>
          <p:cNvSpPr txBox="1"/>
          <p:nvPr/>
        </p:nvSpPr>
        <p:spPr>
          <a:xfrm>
            <a:off x="457200" y="1447560"/>
            <a:ext cx="8229600" cy="464796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You will have successfully established:</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elements of a crim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suspect(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crime scene(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potential evidenc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witnesse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D additional follow-up/lead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eed for additional resource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nsideration of a search warrant</a:t>
            </a:r>
            <a:endParaRPr b="0" lang="en-US" sz="2800" spc="-1" strike="noStrike">
              <a:solidFill>
                <a:srgbClr val="003366"/>
              </a:solidFill>
              <a:latin typeface="Times New Roman"/>
            </a:endParaRPr>
          </a:p>
          <a:p>
            <a:pPr marL="343080" indent="-343080">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289A-258D-4AC6-A44D-9C1729CE2CAF}"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Concluding the Interview</a:t>
            </a:r>
            <a:endParaRPr b="0" lang="en-US" sz="4000" spc="-1" strike="noStrike">
              <a:solidFill>
                <a:srgbClr val="003366"/>
              </a:solidFill>
              <a:latin typeface="Arial"/>
            </a:endParaRPr>
          </a:p>
        </p:txBody>
      </p:sp>
      <p:sp>
        <p:nvSpPr>
          <p:cNvPr id="199"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Explain future procedures</a:t>
            </a:r>
            <a:endParaRPr b="0" lang="en-US" sz="3200" spc="-1" strike="noStrike">
              <a:solidFill>
                <a:srgbClr val="003366"/>
              </a:solidFill>
              <a:latin typeface="Times New Roman"/>
            </a:endParaRPr>
          </a:p>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Address safety concerns</a:t>
            </a:r>
            <a:endParaRPr b="0" lang="en-US" sz="3200" spc="-1" strike="noStrike">
              <a:solidFill>
                <a:srgbClr val="003366"/>
              </a:solidFill>
              <a:latin typeface="Times New Roman"/>
            </a:endParaRPr>
          </a:p>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Acknowledge that disclosure is a process</a:t>
            </a:r>
            <a:endParaRPr b="0" lang="en-US" sz="3200" spc="-1" strike="noStrike">
              <a:solidFill>
                <a:srgbClr val="003366"/>
              </a:solidFill>
              <a:latin typeface="Times New Roman"/>
            </a:endParaRPr>
          </a:p>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Obtain contact information throughout </a:t>
            </a:r>
            <a:endParaRPr b="0" lang="en-US" sz="3200" spc="-1" strike="noStrike">
              <a:solidFill>
                <a:srgbClr val="003366"/>
              </a:solidFill>
              <a:latin typeface="Times New Roman"/>
            </a:endParaRPr>
          </a:p>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Offer to assist with notification of friends and family</a:t>
            </a:r>
            <a:endParaRPr b="0" lang="en-US" sz="3200" spc="-1" strike="noStrike">
              <a:solidFill>
                <a:srgbClr val="003366"/>
              </a:solidFill>
              <a:latin typeface="Times New Roman"/>
            </a:endParaRPr>
          </a:p>
          <a:p>
            <a:pPr marL="343080" indent="-343080">
              <a:spcBef>
                <a:spcPts val="799"/>
              </a:spcBef>
              <a:buClr>
                <a:srgbClr val="0026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d"/>
                </a:solidFill>
                <a:latin typeface="Times New Roman"/>
              </a:rPr>
              <a:t>Provide written information and referrals</a:t>
            </a:r>
            <a:endParaRPr b="0" lang="en-US" sz="3200" spc="-1" strike="noStrike">
              <a:solidFill>
                <a:srgbClr val="003366"/>
              </a:solidFill>
              <a:latin typeface="Times New Roman"/>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508A-052B-4D8B-A9C2-6658314E753B}"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066680"/>
            <a:ext cx="8229600" cy="4572000"/>
          </a:xfrm>
          <a:prstGeom prst="rect">
            <a:avLst/>
          </a:prstGeom>
          <a:noFill/>
          <a:ln w="0">
            <a:noFill/>
          </a:ln>
        </p:spPr>
        <p:txBody>
          <a:bodyPr anchor="t">
            <a:normAutofit fontScale="92000"/>
          </a:bodyPr>
          <a:p>
            <a:pPr marL="315360" indent="-31536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3366"/>
                </a:solidFill>
                <a:latin typeface="Eras Light ITC"/>
                <a:ea typeface="Malgun Gothic"/>
              </a:rPr>
              <a:t>“</a:t>
            </a:r>
            <a:r>
              <a:rPr b="1" lang="en-US" sz="4600" spc="-1" strike="noStrike">
                <a:solidFill>
                  <a:srgbClr val="003366"/>
                </a:solidFill>
                <a:latin typeface="Eras Light ITC"/>
                <a:ea typeface="Malgun Gothic"/>
              </a:rPr>
              <a:t>I’ve learned that people will forget what you said, people will forget what you did, but people will never forget how you made them feel.”</a:t>
            </a:r>
            <a:endParaRPr b="0" lang="en-US" sz="4600" spc="-1" strike="noStrike">
              <a:solidFill>
                <a:srgbClr val="003366"/>
              </a:solidFill>
              <a:latin typeface="Times New Roman"/>
            </a:endParaRPr>
          </a:p>
          <a:p>
            <a:pPr marL="315360" indent="-3153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66"/>
                </a:solidFill>
                <a:latin typeface="Corbel"/>
              </a:rPr>
              <a:t>~Maya Angelou</a:t>
            </a:r>
            <a:endParaRPr b="0" lang="en-US" sz="4000" spc="-1" strike="noStrike">
              <a:solidFill>
                <a:srgbClr val="003366"/>
              </a:solidFill>
              <a:latin typeface="Times New Roman"/>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D335-5513-4D1B-B86C-F201FEBF0DCE}" type="slidenum">
              <a:rPr b="0" lang="en-US" sz="1200" spc="-1" strike="noStrike">
                <a:solidFill>
                  <a:srgbClr val="ffffff"/>
                </a:solidFill>
                <a:latin typeface="Arial"/>
                <a:ea typeface="MS PGothic"/>
              </a:rPr>
              <a:t>&lt;number&gt;</a:t>
            </a:fld>
            <a:endParaRPr b="0" lang="en-US" sz="1200" spc="-1" strike="noStrike">
              <a:solidFill>
                <a:srgbClr val="0033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Documenting the Interview</a:t>
            </a:r>
            <a:endParaRPr b="0" lang="en-US" sz="4000" spc="-1" strike="noStrike">
              <a:solidFill>
                <a:srgbClr val="003366"/>
              </a:solidFill>
              <a:latin typeface="Arial"/>
            </a:endParaRPr>
          </a:p>
        </p:txBody>
      </p:sp>
      <p:sp>
        <p:nvSpPr>
          <p:cNvPr id="20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ports are critical and the most important documents in violence against women cas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Good reports</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sist in safety planning</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duce the need for victim testimony in court</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sist in obtaining protection order</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pply documentation for sentencing</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quality information to prosecutor</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key information for accessing the Crime Victims Compensation Fund</a:t>
            </a:r>
            <a:endParaRPr b="0" lang="en-US" sz="2800" spc="-1" strike="noStrike">
              <a:solidFill>
                <a:srgbClr val="003366"/>
              </a:solidFill>
              <a:latin typeface="Times New Roman"/>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CEC8-FCEA-4285-9B9C-CD87DD83FC7E}" type="slidenum">
              <a:rPr b="0" lang="en-US" sz="1200" spc="-1" strike="noStrike">
                <a:solidFill>
                  <a:srgbClr val="898fa0"/>
                </a:solidFill>
                <a:latin typeface="Times New Roman"/>
              </a:rPr>
              <a:t>&lt;number&gt;</a:t>
            </a:fld>
            <a:endParaRPr b="0" lang="en-US" sz="12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Documenting the Interview</a:t>
            </a:r>
            <a:endParaRPr b="0" lang="en-US" sz="4000" spc="-1" strike="noStrike">
              <a:solidFill>
                <a:srgbClr val="003366"/>
              </a:solidFill>
              <a:latin typeface="Arial"/>
            </a:endParaRPr>
          </a:p>
        </p:txBody>
      </p:sp>
      <p:sp>
        <p:nvSpPr>
          <p:cNvPr id="207"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eserve exact words used by the victim</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descriptive words when accurate</a:t>
            </a:r>
            <a:endParaRPr b="0" lang="en-US" sz="28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arts of the body </a:t>
            </a:r>
            <a:endParaRPr b="0" lang="en-US" sz="24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exual acts</a:t>
            </a:r>
            <a:endParaRPr b="0" lang="en-US" sz="24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ols, objects, or weapons and how they were used</a:t>
            </a:r>
            <a:endParaRPr b="0" lang="en-US" sz="24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pply chronological order when possible</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se non-consensual language </a:t>
            </a:r>
            <a:endParaRPr b="0" lang="en-US" sz="28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tercourse, fondling, caressing, hugging, engaged in</a:t>
            </a:r>
            <a:endParaRPr b="0" lang="en-US" sz="24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void opinions and hunches</a:t>
            </a:r>
            <a:endParaRPr b="0" lang="en-US" sz="28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4312-4760-45F6-A6EE-0EC788D7BC48}" type="slidenum">
              <a:rPr b="0" lang="en-US" sz="1200" spc="-1" strike="noStrike">
                <a:solidFill>
                  <a:srgbClr val="898fa0"/>
                </a:solidFill>
                <a:latin typeface="Times New Roman"/>
              </a:rPr>
              <a:t>&lt;number&gt;</a:t>
            </a:fld>
            <a:endParaRPr b="0" lang="en-US" sz="1200" spc="-1" strike="noStrike">
              <a:solidFill>
                <a:srgbClr val="00336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Job of Law Enforcement</a:t>
            </a:r>
            <a:endParaRPr b="0" lang="en-US" sz="4000" spc="-1" strike="noStrike">
              <a:solidFill>
                <a:srgbClr val="003366"/>
              </a:solidFill>
              <a:latin typeface="Arial"/>
            </a:endParaRPr>
          </a:p>
        </p:txBody>
      </p:sp>
      <p:sp>
        <p:nvSpPr>
          <p:cNvPr id="210" name=""/>
          <p:cNvSpPr txBox="1"/>
          <p:nvPr/>
        </p:nvSpPr>
        <p:spPr>
          <a:xfrm>
            <a:off x="456840" y="1752480"/>
            <a:ext cx="4419720" cy="426744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cus investigative and interviewing efforts on corroborating the victim’s </a:t>
            </a:r>
            <a:r>
              <a:rPr b="0" lang="en-US" sz="2800" spc="-1" strike="noStrike">
                <a:solidFill>
                  <a:srgbClr val="003366"/>
                </a:solidFill>
                <a:latin typeface="Times New Roman"/>
                <a:ea typeface="MS PMincho"/>
              </a:rPr>
              <a:t>account of the assault </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esume a crime has occurred unless and until the investigation proves otherwise.</a:t>
            </a:r>
            <a:endParaRPr b="0" lang="en-US" sz="2800" spc="-1" strike="noStrike">
              <a:solidFill>
                <a:srgbClr val="003366"/>
              </a:solidFill>
              <a:latin typeface="Times New Roman"/>
            </a:endParaRPr>
          </a:p>
        </p:txBody>
      </p:sp>
      <p:sp>
        <p:nvSpPr>
          <p:cNvPr id="2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20F8-1395-41C4-A719-D71F5696F039}"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pic>
        <p:nvPicPr>
          <p:cNvPr id="212" name="Picture 4" descr="files.jpg"/>
          <p:cNvPicPr/>
          <p:nvPr/>
        </p:nvPicPr>
        <p:blipFill>
          <a:blip r:embed="rId1"/>
          <a:stretch/>
        </p:blipFill>
        <p:spPr>
          <a:xfrm>
            <a:off x="5059440" y="1579680"/>
            <a:ext cx="3591000" cy="52592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0" lang="en-US" sz="3600" spc="-1" strike="noStrike">
                <a:solidFill>
                  <a:srgbClr val="003366"/>
                </a:solidFill>
                <a:latin typeface="Arial"/>
              </a:rPr>
              <a:t>Recantation/False Reports/Unfounded Cases</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3366"/>
                </a:solidFill>
                <a:latin typeface="Arial"/>
              </a:rPr>
              <a:t>Recantation</a:t>
            </a:r>
            <a:br>
              <a:rPr sz="3600"/>
            </a:br>
            <a:endParaRPr b="0" lang="en-US" sz="3600" spc="-1" strike="noStrike">
              <a:solidFill>
                <a:srgbClr val="003366"/>
              </a:solidFill>
              <a:latin typeface="Arial"/>
            </a:endParaRPr>
          </a:p>
        </p:txBody>
      </p:sp>
      <p:pic>
        <p:nvPicPr>
          <p:cNvPr id="215" name="Picture 4" descr="3138_witness_cartoon"/>
          <p:cNvPicPr/>
          <p:nvPr/>
        </p:nvPicPr>
        <p:blipFill>
          <a:blip r:embed="rId1"/>
          <a:stretch/>
        </p:blipFill>
        <p:spPr>
          <a:xfrm>
            <a:off x="1600200" y="1295280"/>
            <a:ext cx="6400800" cy="541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64d"/>
                </a:solidFill>
                <a:latin typeface="Arial"/>
              </a:rPr>
              <a:t>Shifting Focus</a:t>
            </a:r>
            <a:endParaRPr b="0" lang="en-US" sz="4400" spc="-1" strike="noStrike">
              <a:solidFill>
                <a:srgbClr val="003366"/>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will challenge you to shift your focus when you respond to sexual assault cases from the victim to the offender</a:t>
            </a:r>
            <a:endParaRPr b="0" lang="en-US" sz="3200" spc="-1" strike="noStrike">
              <a:solidFill>
                <a:srgbClr val="0033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cus on how and why the offender targeted the victim</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ow did the offender exploit the victim’</a:t>
            </a:r>
            <a:r>
              <a:rPr b="0" lang="en-US" sz="2800" spc="-1" strike="noStrike">
                <a:solidFill>
                  <a:srgbClr val="003366"/>
                </a:solidFill>
                <a:latin typeface="Times New Roman"/>
                <a:ea typeface="MS PMincho"/>
              </a:rPr>
              <a:t>s vulnerabilities?</a:t>
            </a:r>
            <a:endParaRPr b="0" lang="en-US" sz="2800" spc="-1" strike="noStrike">
              <a:solidFill>
                <a:srgbClr val="0033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antation</a:t>
            </a:r>
            <a:endParaRPr b="0" lang="en-US" sz="4400" spc="-1" strike="noStrike">
              <a:solidFill>
                <a:srgbClr val="003366"/>
              </a:solidFill>
              <a:latin typeface="Arial"/>
            </a:endParaRPr>
          </a:p>
        </p:txBody>
      </p:sp>
      <p:sp>
        <p:nvSpPr>
          <p:cNvPr id="217" name=""/>
          <p:cNvSpPr txBox="1"/>
          <p:nvPr/>
        </p:nvSpPr>
        <p:spPr>
          <a:xfrm>
            <a:off x="457200" y="1447560"/>
            <a:ext cx="8229600" cy="5181480"/>
          </a:xfrm>
          <a:prstGeom prst="rect">
            <a:avLst/>
          </a:prstGeom>
          <a:noFill/>
          <a:ln w="0">
            <a:noFill/>
          </a:ln>
        </p:spPr>
        <p:txBody>
          <a:bodyPr anchor="t">
            <a:normAutofit/>
          </a:bodyPr>
          <a:p>
            <a:pPr marL="343080" indent="-343080">
              <a:lnSpc>
                <a:spcPct val="8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Victim recantation is a retraction or withdrawal of a reported crime. </a:t>
            </a:r>
            <a:endParaRPr b="0" lang="en-US" sz="3400" spc="-1" strike="noStrike">
              <a:solidFill>
                <a:srgbClr val="003366"/>
              </a:solidFill>
              <a:latin typeface="Times New Roman"/>
            </a:endParaRPr>
          </a:p>
          <a:p>
            <a:pPr marL="343080" indent="-343080">
              <a:lnSpc>
                <a:spcPct val="8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Attempt to free a victim from the criminal justice system </a:t>
            </a:r>
            <a:endParaRPr b="0" lang="en-US" sz="3400" spc="-1" strike="noStrike">
              <a:solidFill>
                <a:srgbClr val="003366"/>
              </a:solidFill>
              <a:latin typeface="Times New Roman"/>
            </a:endParaRPr>
          </a:p>
          <a:p>
            <a:pPr marL="343080" indent="-343080">
              <a:lnSpc>
                <a:spcPct val="8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Recantations usually occur because of:</a:t>
            </a:r>
            <a:endParaRPr b="0" lang="en-US" sz="3400" spc="-1" strike="noStrike">
              <a:solidFill>
                <a:srgbClr val="003366"/>
              </a:solidFill>
              <a:latin typeface="Times New Roman"/>
            </a:endParaRPr>
          </a:p>
          <a:p>
            <a:pPr lvl="1" marL="743040" indent="-285840">
              <a:lnSpc>
                <a:spcPct val="8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Toll on victim mentally, emotionally, physically and/or financially; and/or</a:t>
            </a:r>
            <a:endParaRPr b="0" lang="en-US" sz="3000" spc="-1" strike="noStrike">
              <a:solidFill>
                <a:srgbClr val="003366"/>
              </a:solidFill>
              <a:latin typeface="Times New Roman"/>
            </a:endParaRPr>
          </a:p>
          <a:p>
            <a:pPr lvl="1" marL="743040" indent="-285840">
              <a:lnSpc>
                <a:spcPct val="8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Pressure from the offender and/or his supporters to drop the matter </a:t>
            </a:r>
            <a:endParaRPr b="0" lang="en-US" sz="3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antation</a:t>
            </a:r>
            <a:endParaRPr b="0" lang="en-US" sz="4400" spc="-1" strike="noStrike">
              <a:solidFill>
                <a:srgbClr val="003366"/>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Recantation is not, in and of itself, an indication of a false report</a:t>
            </a:r>
            <a:endParaRPr b="0" lang="en-US" sz="3400" spc="-1" strike="noStrike">
              <a:solidFill>
                <a:srgbClr val="003366"/>
              </a:solidFill>
              <a:latin typeface="Times New Roman"/>
            </a:endParaRPr>
          </a:p>
          <a:p>
            <a:pPr marL="343080" indent="-343080">
              <a:lnSpc>
                <a:spcPct val="9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Duty to determine what caused the recantation, to see if the case can move forward in spite of it. </a:t>
            </a:r>
            <a:endParaRPr b="0" lang="en-US" sz="3400" spc="-1" strike="noStrike">
              <a:solidFill>
                <a:srgbClr val="003366"/>
              </a:solidFill>
              <a:latin typeface="Times New Roman"/>
            </a:endParaRPr>
          </a:p>
          <a:p>
            <a:pPr marL="343080" indent="-343080">
              <a:lnSpc>
                <a:spcPct val="90000"/>
              </a:lnSpc>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A recantation is considered actual or potential exculpatory evidence.</a:t>
            </a:r>
            <a:endParaRPr b="0" lang="en-US" sz="3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lse Allegations</a:t>
            </a:r>
            <a:endParaRPr b="0" lang="en-US" sz="4000" spc="-1" strike="noStrike">
              <a:solidFill>
                <a:srgbClr val="003366"/>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 false allegation is a report of a sexual assault that an investigation factually proves never occurred</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alse reports are usually made for one of the following:</a:t>
            </a:r>
            <a:endParaRPr b="0" lang="en-US" sz="32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person suffers from psychological problems;</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person uses the claim for self-protection; or</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person is malicious.</a:t>
            </a:r>
            <a:endParaRPr b="0" lang="en-US" sz="2800" spc="-1" strike="noStrike">
              <a:solidFill>
                <a:srgbClr val="003366"/>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of False Allegations</a:t>
            </a:r>
            <a:endParaRPr b="0" lang="en-US" sz="4400" spc="-1" strike="noStrike">
              <a:solidFill>
                <a:srgbClr val="003366"/>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alse allegations of rape are rare and no more common than false allegations of other types of crime</a:t>
            </a:r>
            <a:r>
              <a:rPr b="0" lang="en-US" sz="2800" spc="-1" strike="noStrike">
                <a:solidFill>
                  <a:srgbClr val="003366"/>
                </a:solidFill>
                <a:latin typeface="Times New Roman"/>
              </a:rPr>
              <a:t> </a:t>
            </a:r>
            <a:r>
              <a:rPr b="0" lang="en-US" sz="2200" spc="-1" strike="noStrike">
                <a:solidFill>
                  <a:srgbClr val="003366"/>
                </a:solidFill>
                <a:latin typeface="Times New Roman"/>
              </a:rPr>
              <a:t>(Morrison, UC Davis L. Rev. 1991)</a:t>
            </a:r>
            <a:endParaRPr b="0" lang="en-US" sz="2200" spc="-1" strike="noStrike">
              <a:solidFill>
                <a:srgbClr val="003366"/>
              </a:solidFill>
              <a:latin typeface="Times New Roman"/>
            </a:endParaRPr>
          </a:p>
          <a:p>
            <a:pPr marL="343080" indent="-343080">
              <a:spcBef>
                <a:spcPts val="5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alse charges are infrequent </a:t>
            </a:r>
            <a:r>
              <a:rPr b="0" lang="en-US" sz="2200" spc="-1" strike="noStrike">
                <a:solidFill>
                  <a:srgbClr val="003366"/>
                </a:solidFill>
                <a:latin typeface="Times New Roman"/>
              </a:rPr>
              <a:t>(ABA:  The Sexual Abuse Allegation Project: Final Report 1998)</a:t>
            </a:r>
            <a:endParaRPr b="0" lang="en-US" sz="2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member</a:t>
            </a:r>
            <a:endParaRPr b="0" lang="en-US" sz="4400" spc="-1" strike="noStrike">
              <a:solidFill>
                <a:srgbClr val="003366"/>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ctim statements often contain inconsistencies  </a:t>
            </a:r>
            <a:endParaRPr b="0" lang="en-US" sz="3200" spc="-1" strike="noStrike">
              <a:solidFill>
                <a:srgbClr val="003366"/>
              </a:solidFill>
              <a:latin typeface="Times New Roman"/>
            </a:endParaRPr>
          </a:p>
          <a:p>
            <a:pPr lvl="1" marL="743040" indent="-28584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y may include partial truths and/or omissions.</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vestigator has the responsibility piecing together a factual account of the assault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en though a victim may have a motive to lie, </a:t>
            </a:r>
            <a:r>
              <a:rPr b="0" lang="en-US" sz="3200" spc="-1" strike="noStrike" u="sng">
                <a:solidFill>
                  <a:srgbClr val="003366"/>
                </a:solidFill>
                <a:uFillTx/>
                <a:latin typeface="Times New Roman"/>
              </a:rPr>
              <a:t>it does not mean that a sexual assault did not occur</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Unfounded Cases</a:t>
            </a:r>
            <a:endParaRPr b="0" lang="en-US" sz="4000" spc="-1" strike="noStrike">
              <a:solidFill>
                <a:srgbClr val="003366"/>
              </a:solidFill>
              <a:latin typeface="Arial"/>
            </a:endParaRPr>
          </a:p>
        </p:txBody>
      </p:sp>
      <p:sp>
        <p:nvSpPr>
          <p:cNvPr id="227" name=""/>
          <p:cNvSpPr txBox="1"/>
          <p:nvPr/>
        </p:nvSpPr>
        <p:spPr>
          <a:xfrm>
            <a:off x="533520" y="1676160"/>
            <a:ext cx="8076960" cy="4800600"/>
          </a:xfrm>
          <a:prstGeom prst="rect">
            <a:avLst/>
          </a:prstGeom>
          <a:noFill/>
          <a:ln w="0">
            <a:noFill/>
          </a:ln>
        </p:spPr>
        <p:txBody>
          <a:bodyPr anchor="t">
            <a:normAutofit/>
          </a:bodyPr>
          <a:p>
            <a:pPr marL="343080" indent="-343080">
              <a:lnSpc>
                <a:spcPct val="11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Unfounded is a method of investigative case closure which signifies a specific outcome</a:t>
            </a:r>
            <a:endParaRPr b="0" lang="en-US" sz="3000" spc="-1" strike="noStrike">
              <a:solidFill>
                <a:srgbClr val="003366"/>
              </a:solidFill>
              <a:latin typeface="Times New Roman"/>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It is not synonymous with false allegations.</a:t>
            </a:r>
            <a:endParaRPr b="0" lang="en-US" sz="2600" spc="-1" strike="noStrike">
              <a:solidFill>
                <a:srgbClr val="003366"/>
              </a:solidFill>
              <a:latin typeface="Times New Roman"/>
            </a:endParaRPr>
          </a:p>
          <a:p>
            <a:pPr marL="343080" indent="-343080">
              <a:lnSpc>
                <a:spcPct val="11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Broad number of possible case outcomes included in ‘unfounded’:</a:t>
            </a:r>
            <a:endParaRPr b="0" lang="en-US" sz="3000" spc="-1" strike="noStrike">
              <a:solidFill>
                <a:srgbClr val="003366"/>
              </a:solidFill>
              <a:latin typeface="Times New Roman"/>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	</a:t>
            </a:r>
            <a:r>
              <a:rPr b="0" lang="en-US" sz="3000" spc="-1" strike="noStrike">
                <a:solidFill>
                  <a:srgbClr val="003366"/>
                </a:solidFill>
                <a:latin typeface="Times New Roman"/>
              </a:rPr>
              <a:t>-No evidence was identified or disclosed</a:t>
            </a:r>
            <a:endParaRPr b="0" lang="en-US" sz="3000" spc="-1" strike="noStrike">
              <a:solidFill>
                <a:srgbClr val="003366"/>
              </a:solidFill>
              <a:latin typeface="Times New Roman"/>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	</a:t>
            </a:r>
            <a:r>
              <a:rPr b="0" lang="en-US" sz="3000" spc="-1" strike="noStrike">
                <a:solidFill>
                  <a:srgbClr val="003366"/>
                </a:solidFill>
                <a:latin typeface="Times New Roman"/>
              </a:rPr>
              <a:t>-Case investigated and found to be baseless   </a:t>
            </a:r>
            <a:r>
              <a:rPr b="0" lang="en-US" sz="3000" spc="-1" strike="noStrike">
                <a:solidFill>
                  <a:srgbClr val="003366"/>
                </a:solidFill>
                <a:latin typeface="Times New Roman"/>
              </a:rPr>
              <a:t>	</a:t>
            </a:r>
            <a:r>
              <a:rPr b="0" lang="en-US" sz="3000" spc="-1" strike="noStrike">
                <a:solidFill>
                  <a:srgbClr val="003366"/>
                </a:solidFill>
                <a:latin typeface="Times New Roman"/>
              </a:rPr>
              <a:t>or false</a:t>
            </a:r>
            <a:endParaRPr b="0" lang="en-US" sz="3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founded Cases</a:t>
            </a:r>
            <a:endParaRPr b="0" lang="en-US" sz="4400" spc="-1" strike="noStrike">
              <a:solidFill>
                <a:srgbClr val="003366"/>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Unfounded cases include: </a:t>
            </a:r>
            <a:endParaRPr b="0" lang="en-US" sz="3000" spc="-1" strike="noStrike">
              <a:solidFill>
                <a:srgbClr val="003366"/>
              </a:solidFill>
              <a:latin typeface="Times New Roman"/>
            </a:endParaRPr>
          </a:p>
          <a:p>
            <a:pPr lvl="1" marL="743040" indent="-28584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false allegations, recantation, lack evidence, cannot be proven, or all elements of the crime may not have been met</a:t>
            </a:r>
            <a:endParaRPr b="0" lang="en-US" sz="2600" spc="-1" strike="noStrike">
              <a:solidFill>
                <a:srgbClr val="003366"/>
              </a:solidFill>
              <a:latin typeface="Times New Roman"/>
            </a:endParaRPr>
          </a:p>
          <a:p>
            <a:pPr marL="343080" indent="-343080">
              <a:lnSpc>
                <a:spcPct val="110000"/>
              </a:lnSpc>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While the “category” of unfounded cases may include false allegations and recantation, the “categories” of false allegations and recantation </a:t>
            </a:r>
            <a:r>
              <a:rPr b="1" lang="en-US" sz="3000" spc="-1" strike="noStrike">
                <a:solidFill>
                  <a:srgbClr val="003366"/>
                </a:solidFill>
                <a:latin typeface="Times New Roman"/>
              </a:rPr>
              <a:t>do not </a:t>
            </a:r>
            <a:r>
              <a:rPr b="0" lang="en-US" sz="3000" spc="-1" strike="noStrike">
                <a:solidFill>
                  <a:srgbClr val="003366"/>
                </a:solidFill>
                <a:latin typeface="Times New Roman"/>
              </a:rPr>
              <a:t>include unfounded cases. </a:t>
            </a:r>
            <a:endParaRPr b="0" lang="en-US" sz="3000" spc="-1" strike="noStrike">
              <a:solidFill>
                <a:srgbClr val="003366"/>
              </a:solidFill>
              <a:latin typeface="Times New Roman"/>
            </a:endParaRPr>
          </a:p>
          <a:p>
            <a:pPr marL="343080" indent="-34308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of Cases Unfounded</a:t>
            </a:r>
            <a:endParaRPr b="0" lang="en-US" sz="4400" spc="-1" strike="noStrike">
              <a:solidFill>
                <a:srgbClr val="003366"/>
              </a:solidFill>
              <a:latin typeface="Arial"/>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BI’s 1996 Uniform Crime Report stated that 8% of reports of forcible rape were determined to be unfounded upon investigation.</a:t>
            </a:r>
            <a:endParaRPr b="0" lang="en-US" sz="28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at percentage doesn’t include cases where an accuser fails or refuses to cooperate in an investigation or drops the charges.</a:t>
            </a:r>
            <a:endParaRPr b="0" lang="en-US" sz="2400" spc="-1" strike="noStrike">
              <a:solidFill>
                <a:srgbClr val="003366"/>
              </a:solidFill>
              <a:latin typeface="Times New Roman"/>
            </a:endParaRPr>
          </a:p>
          <a:p>
            <a:pPr marL="343080" indent="-343080">
              <a:spcBef>
                <a:spcPts val="5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similar study in Great Britain also found 8% of the cases were unfounded </a:t>
            </a:r>
            <a:r>
              <a:rPr b="0" lang="en-US" sz="2200" spc="-1" strike="noStrike">
                <a:solidFill>
                  <a:srgbClr val="003366"/>
                </a:solidFill>
                <a:latin typeface="Times New Roman"/>
              </a:rPr>
              <a:t>(2005 Home Office Research)</a:t>
            </a:r>
            <a:endParaRPr b="0" lang="en-US" sz="2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nalyzing Victim Credibility</a:t>
            </a:r>
            <a:endParaRPr b="0" lang="en-US" sz="4000" spc="-1" strike="noStrike">
              <a:solidFill>
                <a:srgbClr val="003366"/>
              </a:solidFill>
              <a:latin typeface="Arial"/>
            </a:endParaRPr>
          </a:p>
        </p:txBody>
      </p:sp>
      <p:pic>
        <p:nvPicPr>
          <p:cNvPr id="233" name="Picture 5" descr="rman7552h.jpg"/>
          <p:cNvPicPr/>
          <p:nvPr/>
        </p:nvPicPr>
        <p:blipFill>
          <a:blip r:embed="rId1"/>
          <a:stretch/>
        </p:blipFill>
        <p:spPr>
          <a:xfrm>
            <a:off x="609480" y="1447920"/>
            <a:ext cx="7848720" cy="48006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380880"/>
            <a:ext cx="876312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Bookman Old Style"/>
              </a:rPr>
              <a:t>Sex Crime Victim Not Always Afforded the Presumption of Credibility</a:t>
            </a:r>
            <a:br>
              <a:rPr sz="2900"/>
            </a:br>
            <a:endParaRPr b="0" lang="en-US" sz="3400" spc="-1" strike="noStrike">
              <a:solidFill>
                <a:srgbClr val="003366"/>
              </a:solidFill>
              <a:latin typeface="Arial"/>
            </a:endParaRPr>
          </a:p>
        </p:txBody>
      </p:sp>
      <p:sp>
        <p:nvSpPr>
          <p:cNvPr id="235" name=""/>
          <p:cNvSpPr txBox="1"/>
          <p:nvPr/>
        </p:nvSpPr>
        <p:spPr>
          <a:xfrm>
            <a:off x="637200" y="2618280"/>
            <a:ext cx="7869600" cy="3327840"/>
          </a:xfrm>
          <a:prstGeom prst="rect">
            <a:avLst/>
          </a:prstGeom>
          <a:solidFill>
            <a:srgbClr val="161616"/>
          </a:solidFill>
          <a:ln w="0">
            <a:noFill/>
          </a:ln>
        </p:spPr>
        <p:txBody>
          <a:bodyPr anchor="t">
            <a:norm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Bookman Old Style"/>
              </a:rPr>
              <a:t>“</a:t>
            </a:r>
            <a:r>
              <a:rPr b="1" lang="en-US" sz="3400" spc="-1" strike="noStrike">
                <a:solidFill>
                  <a:srgbClr val="ffffff"/>
                </a:solidFill>
                <a:latin typeface="Bookman Old Style"/>
              </a:rPr>
              <a:t>Polls show that about 50% of people generally believe women claim rape when it did not happen.”</a:t>
            </a:r>
            <a:endParaRPr b="0" lang="en-US" sz="3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680"/>
            <a:ext cx="86868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264d"/>
                </a:solidFill>
                <a:latin typeface="Arial"/>
              </a:rPr>
              <a:t>Victim-Centered and </a:t>
            </a:r>
            <a:br>
              <a:rPr sz="4200"/>
            </a:br>
            <a:r>
              <a:rPr b="0" lang="en-US" sz="4200" spc="-1" strike="noStrike">
                <a:solidFill>
                  <a:srgbClr val="00264d"/>
                </a:solidFill>
                <a:latin typeface="Arial"/>
              </a:rPr>
              <a:t>Offender-Focused</a:t>
            </a:r>
            <a:endParaRPr b="0" lang="en-US" sz="4200" spc="-1" strike="noStrike">
              <a:solidFill>
                <a:srgbClr val="003366"/>
              </a:solidFill>
              <a:latin typeface="Arial"/>
            </a:endParaRPr>
          </a:p>
        </p:txBody>
      </p:sp>
      <p:sp>
        <p:nvSpPr>
          <p:cNvPr id="101" name=""/>
          <p:cNvSpPr txBox="1"/>
          <p:nvPr/>
        </p:nvSpPr>
        <p:spPr>
          <a:xfrm>
            <a:off x="457200" y="1600200"/>
            <a:ext cx="8229600" cy="5029200"/>
          </a:xfrm>
          <a:prstGeom prst="rect">
            <a:avLst/>
          </a:prstGeom>
          <a:noFill/>
          <a:ln w="0">
            <a:noFill/>
          </a:ln>
        </p:spPr>
        <p:txBody>
          <a:bodyPr anchor="t">
            <a:normAutofit/>
          </a:bodyPr>
          <a:p>
            <a:pPr marL="547560" indent="-4111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Times New Roman"/>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33"/>
                </a:solidFill>
                <a:latin typeface="Times New Roman"/>
              </a:rPr>
              <a:t>Victim-Centered</a:t>
            </a:r>
            <a:r>
              <a:rPr b="0" lang="en-US" sz="2800" spc="-1" strike="noStrike">
                <a:solidFill>
                  <a:srgbClr val="001933"/>
                </a:solidFill>
                <a:latin typeface="Times New Roman"/>
              </a:rPr>
              <a:t> </a:t>
            </a:r>
            <a:r>
              <a:rPr b="0" lang="en-US" sz="2800" spc="-1" strike="noStrike">
                <a:solidFill>
                  <a:srgbClr val="003366"/>
                </a:solidFill>
                <a:latin typeface="Times New Roman"/>
              </a:rPr>
              <a:t>– giving time and consideration to the victim’</a:t>
            </a:r>
            <a:r>
              <a:rPr b="0" lang="en-US" sz="2800" spc="-1" strike="noStrike">
                <a:solidFill>
                  <a:srgbClr val="003366"/>
                </a:solidFill>
                <a:latin typeface="Times New Roman"/>
                <a:ea typeface="MS PMincho"/>
              </a:rPr>
              <a:t>s needs, wishes and concerns throughout the medical, advocacy, and criminal justice response</a:t>
            </a:r>
            <a:endParaRPr b="0" lang="en-US" sz="2800" spc="-1" strike="noStrike">
              <a:solidFill>
                <a:srgbClr val="003366"/>
              </a:solidFill>
              <a:latin typeface="Times New Roman"/>
            </a:endParaRPr>
          </a:p>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547560" indent="-41112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3366"/>
                </a:solidFill>
                <a:latin typeface="Times New Roman"/>
              </a:rPr>
              <a:t>Building Stronger Victims Builds Stronger Cases</a:t>
            </a:r>
            <a:endParaRPr b="0" lang="en-US" sz="2600" spc="-1" strike="noStrike">
              <a:solidFill>
                <a:srgbClr val="003366"/>
              </a:solidFill>
              <a:latin typeface="Times New Roman"/>
            </a:endParaRPr>
          </a:p>
          <a:p>
            <a:pPr marL="547560" indent="-411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933"/>
                </a:solidFill>
                <a:latin typeface="Times New Roman"/>
              </a:rPr>
              <a:t>Offender-Focused</a:t>
            </a:r>
            <a:r>
              <a:rPr b="0" lang="en-US" sz="2800" spc="-1" strike="noStrike">
                <a:solidFill>
                  <a:srgbClr val="001933"/>
                </a:solidFill>
                <a:latin typeface="Times New Roman"/>
              </a:rPr>
              <a:t> </a:t>
            </a:r>
            <a:r>
              <a:rPr b="0" lang="en-US" sz="2800" spc="-1" strike="noStrike">
                <a:solidFill>
                  <a:srgbClr val="003366"/>
                </a:solidFill>
                <a:latin typeface="Times New Roman"/>
              </a:rPr>
              <a:t>– focusing the attention of the investigation on the actions and behaviors of the suspect</a:t>
            </a:r>
            <a:endParaRPr b="0" lang="en-US" sz="2800" spc="-1" strike="noStrike">
              <a:solidFill>
                <a:srgbClr val="003366"/>
              </a:solidFill>
              <a:latin typeface="Times New Roman"/>
            </a:endParaRPr>
          </a:p>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547560" indent="-411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547560" indent="-411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Victims REACT to the ACTIONS of the offender – focus on the offender’</a:t>
            </a:r>
            <a:r>
              <a:rPr b="0" lang="en-US" sz="2800" spc="-1" strike="noStrike">
                <a:solidFill>
                  <a:srgbClr val="003366"/>
                </a:solidFill>
                <a:latin typeface="Times New Roman"/>
                <a:ea typeface="MS PMincho"/>
              </a:rPr>
              <a:t>s actions.</a:t>
            </a:r>
            <a:endParaRPr b="0" lang="en-US" sz="2800" spc="-1" strike="noStrike">
              <a:solidFill>
                <a:srgbClr val="003366"/>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Where does the credibility problem come from?</a:t>
            </a:r>
            <a:endParaRPr b="0" lang="en-US" sz="3600" spc="-1" strike="noStrike">
              <a:solidFill>
                <a:srgbClr val="003366"/>
              </a:solidFill>
              <a:latin typeface="Arial"/>
            </a:endParaRPr>
          </a:p>
        </p:txBody>
      </p:sp>
      <p:sp>
        <p:nvSpPr>
          <p:cNvPr id="237" name=""/>
          <p:cNvSpPr txBox="1"/>
          <p:nvPr/>
        </p:nvSpPr>
        <p:spPr>
          <a:xfrm>
            <a:off x="457200" y="1904760"/>
            <a:ext cx="8229600" cy="4221000"/>
          </a:xfrm>
          <a:prstGeom prst="rect">
            <a:avLst/>
          </a:prstGeom>
          <a:noFill/>
          <a:ln w="0">
            <a:noFill/>
          </a:ln>
        </p:spPr>
        <p:txBody>
          <a:bodyPr anchor="t">
            <a:normAutofit/>
          </a:bodyPr>
          <a:p>
            <a:pPr marL="343080" indent="-343080">
              <a:spcBef>
                <a:spcPts val="8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Juror expectations of: </a:t>
            </a:r>
            <a:endParaRPr b="0" lang="en-US" sz="3400" spc="-1" strike="noStrike">
              <a:solidFill>
                <a:srgbClr val="003366"/>
              </a:solidFill>
              <a:latin typeface="Times New Roman"/>
            </a:endParaRPr>
          </a:p>
          <a:p>
            <a:pPr lvl="1" marL="743040" indent="-285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who sexual assault victims are</a:t>
            </a:r>
            <a:endParaRPr b="0" lang="en-US" sz="3000" spc="-1" strike="noStrike">
              <a:solidFill>
                <a:srgbClr val="003366"/>
              </a:solidFill>
              <a:latin typeface="Times New Roman"/>
            </a:endParaRPr>
          </a:p>
          <a:p>
            <a:pPr lvl="1" marL="743040" indent="-285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how sexual assault victims behave</a:t>
            </a:r>
            <a:endParaRPr b="0" lang="en-US" sz="3000" spc="-1" strike="noStrike">
              <a:solidFill>
                <a:srgbClr val="003366"/>
              </a:solidFill>
              <a:latin typeface="Times New Roman"/>
            </a:endParaRPr>
          </a:p>
          <a:p>
            <a:pPr lvl="1" marL="743040" indent="-285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what leads to sexual assault</a:t>
            </a:r>
            <a:endParaRPr b="0" lang="en-US" sz="3000" spc="-1" strike="noStrike">
              <a:solidFill>
                <a:srgbClr val="003366"/>
              </a:solidFill>
              <a:latin typeface="Times New Roman"/>
            </a:endParaRPr>
          </a:p>
          <a:p>
            <a:pPr lvl="1" marL="743040" indent="-285840">
              <a:spcBef>
                <a:spcPts val="7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imes New Roman"/>
              </a:rPr>
              <a:t>who offenders are</a:t>
            </a:r>
            <a:endParaRPr b="0" lang="en-US" sz="3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Which victims have credibility problems?</a:t>
            </a:r>
            <a:endParaRPr b="0" lang="en-US" sz="4000" spc="-1" strike="noStrike">
              <a:solidFill>
                <a:srgbClr val="003366"/>
              </a:solidFill>
              <a:latin typeface="Arial"/>
            </a:endParaRPr>
          </a:p>
        </p:txBody>
      </p:sp>
      <p:sp>
        <p:nvSpPr>
          <p:cNvPr id="2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toxicated</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romiscuous </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otic Dancer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rug Abuser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ental Illnes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ther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thers</a:t>
            </a:r>
            <a:endParaRPr b="0" lang="en-US" sz="4400" spc="-1" strike="noStrike">
              <a:solidFill>
                <a:srgbClr val="003366"/>
              </a:solidFill>
              <a:latin typeface="Arial"/>
            </a:endParaRPr>
          </a:p>
        </p:txBody>
      </p:sp>
      <p:sp>
        <p:nvSpPr>
          <p:cNvPr id="241" name=""/>
          <p:cNvSpPr txBox="1"/>
          <p:nvPr/>
        </p:nvSpPr>
        <p:spPr>
          <a:xfrm>
            <a:off x="457200" y="1371240"/>
            <a:ext cx="8229600" cy="483084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Very young children</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lderly</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enagers</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eople with disabilities</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pouses (especially if there are divorce or custody issues) </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cquaintances</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ales</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oor and homeles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ictims of high profile offenders</a:t>
            </a:r>
            <a:endParaRPr b="0" lang="en-US" sz="4400" spc="-1" strike="noStrike">
              <a:solidFill>
                <a:srgbClr val="003366"/>
              </a:solidFill>
              <a:latin typeface="Arial"/>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hlet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ntertainer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ublic Official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althy</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rominen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The Privileged”</a:t>
            </a:r>
            <a:endParaRPr b="0" lang="en-US" sz="3200" spc="-1" strike="noStrike">
              <a:solidFill>
                <a:srgbClr val="003366"/>
              </a:solidFill>
              <a:latin typeface="Times New Roman"/>
            </a:endParaRPr>
          </a:p>
        </p:txBody>
      </p:sp>
      <p:pic>
        <p:nvPicPr>
          <p:cNvPr id="244" name="Picture 5" descr="mike-tyson.jpg"/>
          <p:cNvPicPr/>
          <p:nvPr/>
        </p:nvPicPr>
        <p:blipFill>
          <a:blip r:embed="rId1"/>
          <a:stretch/>
        </p:blipFill>
        <p:spPr>
          <a:xfrm>
            <a:off x="4572000" y="13716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 Reality</a:t>
            </a:r>
            <a:endParaRPr b="0" lang="en-US" sz="4400" spc="-1" strike="noStrike">
              <a:solidFill>
                <a:srgbClr val="003366"/>
              </a:solidFill>
              <a:latin typeface="Arial"/>
            </a:endParaRPr>
          </a:p>
        </p:txBody>
      </p:sp>
      <p:sp>
        <p:nvSpPr>
          <p:cNvPr id="24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Although some victim groups have more credibility issues than others, with sex crimes it is the nature of the charge itself which carries the myths and prejudices</a:t>
            </a:r>
            <a:r>
              <a:rPr b="0" lang="en-US" sz="3200" spc="-1" strike="noStrike">
                <a:solidFill>
                  <a:srgbClr val="003366"/>
                </a:solidFill>
                <a:latin typeface="Times New Roman"/>
              </a:rPr>
              <a: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Overcoming Challenges to Credibility in Sex Crime Cases</a:t>
            </a:r>
            <a:endParaRPr b="0" lang="en-US" sz="4000" spc="-1" strike="noStrike">
              <a:solidFill>
                <a:srgbClr val="003366"/>
              </a:solidFill>
              <a:latin typeface="Arial"/>
            </a:endParaRPr>
          </a:p>
        </p:txBody>
      </p:sp>
      <p:sp>
        <p:nvSpPr>
          <p:cNvPr id="248" name=""/>
          <p:cNvSpPr txBox="1"/>
          <p:nvPr/>
        </p:nvSpPr>
        <p:spPr>
          <a:xfrm>
            <a:off x="457200" y="1904760"/>
            <a:ext cx="8229600" cy="4221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ctim credibility is crucial to the successful prosecution of a sexual assault case.  </a:t>
            </a:r>
            <a:endParaRPr b="0" lang="en-US" sz="3200" spc="-1" strike="noStrike">
              <a:solidFill>
                <a:srgbClr val="003366"/>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erything a prosecutor does should be directed toward helping the jury know the victim and demonstrating the offender’s responsibility and lack of credibility.</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ctors Impacting on Credibility</a:t>
            </a:r>
            <a:endParaRPr b="0" lang="en-US" sz="4000" spc="-1" strike="noStrike">
              <a:solidFill>
                <a:srgbClr val="003366"/>
              </a:solidFill>
              <a:latin typeface="Arial"/>
            </a:endParaRPr>
          </a:p>
        </p:txBody>
      </p:sp>
      <p:sp>
        <p:nvSpPr>
          <p:cNvPr id="250" name=""/>
          <p:cNvSpPr txBox="1"/>
          <p:nvPr/>
        </p:nvSpPr>
        <p:spPr>
          <a:xfrm>
            <a:off x="457200" y="1143000"/>
            <a:ext cx="8229600" cy="49831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nsistency</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rustworthiness</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emeanor</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emory &amp; </a:t>
            </a:r>
            <a:endParaRPr b="0" lang="en-US" sz="2800" spc="-1" strike="noStrike">
              <a:solidFill>
                <a:srgbClr val="0033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Communication Skills</a:t>
            </a:r>
            <a:endParaRPr b="0" lang="en-US" sz="2800" spc="-1" strike="noStrike">
              <a:solidFill>
                <a:srgbClr val="003366"/>
              </a:solidFill>
              <a:latin typeface="Times New Roman"/>
            </a:endParaRPr>
          </a:p>
        </p:txBody>
      </p:sp>
      <p:pic>
        <p:nvPicPr>
          <p:cNvPr id="251" name="Picture 5" descr="lovely2.jpg"/>
          <p:cNvPicPr/>
          <p:nvPr/>
        </p:nvPicPr>
        <p:blipFill>
          <a:blip r:embed="rId1"/>
          <a:stretch/>
        </p:blipFill>
        <p:spPr>
          <a:xfrm>
            <a:off x="4343400" y="838080"/>
            <a:ext cx="4800600" cy="5410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coming Challenges</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3520" y="-360"/>
            <a:ext cx="86104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a:rPr>
              <a:t>Recognize Impact of Trauma on Investigation</a:t>
            </a:r>
            <a:endParaRPr b="0" lang="en-US" sz="3800" spc="-1" strike="noStrike">
              <a:solidFill>
                <a:srgbClr val="003366"/>
              </a:solidFill>
              <a:latin typeface="Arial"/>
            </a:endParaRPr>
          </a:p>
        </p:txBody>
      </p:sp>
      <p:sp>
        <p:nvSpPr>
          <p:cNvPr id="254" name=""/>
          <p:cNvSpPr txBox="1"/>
          <p:nvPr/>
        </p:nvSpPr>
        <p:spPr>
          <a:xfrm>
            <a:off x="304920" y="1981080"/>
            <a:ext cx="8610480" cy="4191120"/>
          </a:xfrm>
          <a:prstGeom prst="rect">
            <a:avLst/>
          </a:prstGeom>
          <a:noFill/>
          <a:ln w="0">
            <a:noFill/>
          </a:ln>
        </p:spPr>
        <p:txBody>
          <a:bodyPr anchor="t">
            <a:normAutofit/>
          </a:bodyPr>
          <a:p>
            <a:pPr marL="343080" indent="-34308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ost victims who report do so after some delay</a:t>
            </a:r>
            <a:endParaRPr b="0" lang="en-US" sz="2600" spc="-1" strike="noStrike">
              <a:solidFill>
                <a:srgbClr val="003366"/>
              </a:solidFill>
              <a:latin typeface="Times New Roman"/>
            </a:endParaRPr>
          </a:p>
          <a:p>
            <a:pPr marL="343080" indent="-34308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ost victims have difficulty remembering all the details of the sexual assault</a:t>
            </a:r>
            <a:endParaRPr b="0" lang="en-US" sz="2600" spc="-1" strike="noStrike">
              <a:solidFill>
                <a:srgbClr val="003366"/>
              </a:solidFill>
              <a:latin typeface="Times New Roman"/>
            </a:endParaRPr>
          </a:p>
          <a:p>
            <a:pPr marL="343080" indent="-34308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ost victims experience trauma reactions on an ongoing basis after the sexual assault</a:t>
            </a:r>
            <a:endParaRPr b="0" lang="en-US" sz="2600" spc="-1" strike="noStrike">
              <a:solidFill>
                <a:srgbClr val="003366"/>
              </a:solidFill>
              <a:latin typeface="Times New Roman"/>
            </a:endParaRPr>
          </a:p>
          <a:p>
            <a:pPr marL="343080" indent="-34308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Most victims do not physically resist</a:t>
            </a:r>
            <a:endParaRPr b="0" lang="en-US" sz="2600" spc="-1" strike="noStrike">
              <a:solidFill>
                <a:srgbClr val="003366"/>
              </a:solidFill>
              <a:latin typeface="Times New Roman"/>
            </a:endParaRPr>
          </a:p>
          <a:p>
            <a:pPr marL="343080" indent="-343080">
              <a:lnSpc>
                <a:spcPct val="11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Prosecutors can use expert witnesses to explain the impact of trauma</a:t>
            </a:r>
            <a:endParaRPr b="0" lang="en-US" sz="2600" spc="-1" strike="noStrike">
              <a:solidFill>
                <a:srgbClr val="003366"/>
              </a:solidFill>
              <a:latin typeface="Times New Roman"/>
            </a:endParaRPr>
          </a:p>
          <a:p>
            <a:pPr marL="343080" indent="-343080">
              <a:lnSpc>
                <a:spcPct val="9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Challenges to Victim Credibility</a:t>
            </a:r>
            <a:endParaRPr b="0" lang="en-US" sz="4000" spc="-1" strike="noStrike">
              <a:solidFill>
                <a:srgbClr val="003366"/>
              </a:solidFill>
              <a:latin typeface="Arial"/>
            </a:endParaRPr>
          </a:p>
        </p:txBody>
      </p:sp>
      <p:sp>
        <p:nvSpPr>
          <p:cNvPr id="256" name=""/>
          <p:cNvSpPr txBox="1"/>
          <p:nvPr/>
        </p:nvSpPr>
        <p:spPr>
          <a:xfrm>
            <a:off x="456840" y="1294920"/>
            <a:ext cx="8381880" cy="5257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Lack of Physical Resistance</a:t>
            </a:r>
            <a:endParaRPr b="0" lang="en-US" sz="32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do most sexual assault victims exhibit little or no physical resistance?</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rprised, confused, fear of retaliation, out-sized by the offender, dissociation or frozen fright, under the influence of drugs and/or alcohol</a:t>
            </a:r>
            <a:endParaRPr b="0" lang="en-US" sz="28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72% of female victims of sexual assault are fearful of injury or death during the assault</a:t>
            </a:r>
            <a:endParaRPr b="0" lang="en-US" sz="28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5673-7645-4886-AEE5-ED561AFD4F0B}"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108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INITIAL RESPONSE</a:t>
            </a:r>
            <a:endParaRPr b="0" lang="en-US" sz="4000" spc="-1" strike="noStrike">
              <a:solidFill>
                <a:srgbClr val="003366"/>
              </a:solidFill>
              <a:latin typeface="Arial"/>
            </a:endParaRPr>
          </a:p>
        </p:txBody>
      </p:sp>
      <p:pic>
        <p:nvPicPr>
          <p:cNvPr id="103" name="Picture 2" descr="C:\Users\Owner\AppData\Local\Microsoft\Windows\Temporary Internet Files\Content.IE5\UP6L1QIB\MP900184939[1].jpg"/>
          <p:cNvPicPr/>
          <p:nvPr/>
        </p:nvPicPr>
        <p:blipFill>
          <a:blip r:embed="rId1"/>
          <a:stretch/>
        </p:blipFill>
        <p:spPr>
          <a:xfrm>
            <a:off x="5711760" y="2279520"/>
            <a:ext cx="2451240" cy="36705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632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hallenges to Victim Credibility</a:t>
            </a:r>
            <a:endParaRPr b="0" lang="en-US" sz="4000" spc="-1" strike="noStrike">
              <a:solidFill>
                <a:srgbClr val="003366"/>
              </a:solidFill>
              <a:latin typeface="Arial"/>
            </a:endParaRPr>
          </a:p>
        </p:txBody>
      </p:sp>
      <p:sp>
        <p:nvSpPr>
          <p:cNvPr id="259" name=""/>
          <p:cNvSpPr txBox="1"/>
          <p:nvPr/>
        </p:nvSpPr>
        <p:spPr>
          <a:xfrm>
            <a:off x="380880" y="152388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vercoming the Challenge of</a:t>
            </a:r>
            <a:endParaRPr b="0" lang="en-US" sz="2800" spc="-1" strike="noStrike">
              <a:solidFill>
                <a:srgbClr val="003366"/>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ack of Physical Resistance</a:t>
            </a:r>
            <a:endParaRPr b="0" lang="en-US" sz="2800" spc="-1" strike="noStrike">
              <a:solidFill>
                <a:srgbClr val="003366"/>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sk the victim to describe what she/he was thinking and feeling, and what she/he believed might happen</a:t>
            </a:r>
            <a:endParaRPr b="0" lang="en-US" sz="2800" spc="-1" strike="noStrike">
              <a:solidFill>
                <a:srgbClr val="003366"/>
              </a:solidFill>
              <a:latin typeface="Times New Roman"/>
            </a:endParaRPr>
          </a:p>
          <a:p>
            <a:pPr lvl="1" marL="743040" indent="-28584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rPr>
              <a:t>Sensory details are critical!</a:t>
            </a:r>
            <a:endParaRPr b="0" lang="en-US" sz="24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National Intimate Partner and Sexual Violence Survey (NISVS), 2010</a:t>
            </a:r>
            <a:endParaRPr b="0" lang="en-US" sz="900" spc="-1" strike="noStrike">
              <a:solidFill>
                <a:srgbClr val="003366"/>
              </a:solidFill>
              <a:latin typeface="Times New Roman"/>
            </a:endParaRPr>
          </a:p>
        </p:txBody>
      </p:sp>
      <p:sp>
        <p:nvSpPr>
          <p:cNvPr id="2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0FD9-F740-4447-878A-4E3B28F27FD7}"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hallenges to Victim Credibility</a:t>
            </a:r>
            <a:endParaRPr b="0" lang="en-US" sz="4000" spc="-1" strike="noStrike">
              <a:solidFill>
                <a:srgbClr val="003366"/>
              </a:solidFill>
              <a:latin typeface="Arial"/>
            </a:endParaRPr>
          </a:p>
        </p:txBody>
      </p:sp>
      <p:sp>
        <p:nvSpPr>
          <p:cNvPr id="262" name=""/>
          <p:cNvSpPr txBox="1"/>
          <p:nvPr/>
        </p:nvSpPr>
        <p:spPr>
          <a:xfrm>
            <a:off x="457200" y="1371600"/>
            <a:ext cx="8229600" cy="4525920"/>
          </a:xfrm>
          <a:prstGeom prst="rect">
            <a:avLst/>
          </a:prstGeom>
          <a:noFill/>
          <a:ln w="0">
            <a:noFill/>
          </a:ln>
        </p:spPr>
        <p:txBody>
          <a:bodyPr anchor="t">
            <a:normAutofit fontScale="98000"/>
          </a:bodyPr>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Delayed</a:t>
            </a:r>
            <a:r>
              <a:rPr b="1" lang="en-US" sz="3200" spc="-1" strike="noStrike">
                <a:solidFill>
                  <a:srgbClr val="99ccff"/>
                </a:solidFill>
                <a:latin typeface="Times New Roman"/>
              </a:rPr>
              <a:t> </a:t>
            </a:r>
            <a:r>
              <a:rPr b="1" lang="en-US" sz="3200" spc="-1" strike="noStrike">
                <a:solidFill>
                  <a:srgbClr val="003366"/>
                </a:solidFill>
                <a:latin typeface="Times New Roman"/>
              </a:rPr>
              <a:t>Reporting</a:t>
            </a:r>
            <a:endParaRPr b="0" lang="en-US" sz="3200" spc="-1" strike="noStrike">
              <a:solidFill>
                <a:srgbClr val="003366"/>
              </a:solidFill>
              <a:latin typeface="Times New Roman"/>
            </a:endParaRPr>
          </a:p>
          <a:p>
            <a:pPr marL="335880" indent="-3358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5880" indent="-3358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are the majority of reported sexual assaults delayed?</a:t>
            </a:r>
            <a:endParaRPr b="0" lang="en-US" sz="2800" spc="-1" strike="noStrike">
              <a:solidFill>
                <a:srgbClr val="003366"/>
              </a:solidFill>
              <a:latin typeface="Times New Roman"/>
            </a:endParaRPr>
          </a:p>
          <a:p>
            <a:pPr lvl="1" marL="727920" indent="-280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nsure whether a crime occurred</a:t>
            </a:r>
            <a:endParaRPr b="0" lang="en-US" sz="2800" spc="-1" strike="noStrike">
              <a:solidFill>
                <a:srgbClr val="003366"/>
              </a:solidFill>
              <a:latin typeface="Times New Roman"/>
            </a:endParaRPr>
          </a:p>
          <a:p>
            <a:pPr lvl="1" marL="727920" indent="-280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lf-blame/guilt</a:t>
            </a:r>
            <a:endParaRPr b="0" lang="en-US" sz="2800" spc="-1" strike="noStrike">
              <a:solidFill>
                <a:srgbClr val="003366"/>
              </a:solidFill>
              <a:latin typeface="Times New Roman"/>
            </a:endParaRPr>
          </a:p>
          <a:p>
            <a:pPr lvl="1" marL="727920" indent="-280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hame</a:t>
            </a:r>
            <a:endParaRPr b="0" lang="en-US" sz="2800" spc="-1" strike="noStrike">
              <a:solidFill>
                <a:srgbClr val="003366"/>
              </a:solidFill>
              <a:latin typeface="Times New Roman"/>
            </a:endParaRPr>
          </a:p>
          <a:p>
            <a:pPr lvl="1" marL="727920" indent="-280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reprisal – family, community, society, offender</a:t>
            </a:r>
            <a:endParaRPr b="0" lang="en-US" sz="2800" spc="-1" strike="noStrike">
              <a:solidFill>
                <a:srgbClr val="003366"/>
              </a:solidFill>
              <a:latin typeface="Times New Roman"/>
            </a:endParaRPr>
          </a:p>
          <a:p>
            <a:pPr lvl="1" marL="727920" indent="-280080">
              <a:lnSpc>
                <a:spcPct val="9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not being believed</a:t>
            </a:r>
            <a:endParaRPr b="0" lang="en-US" sz="2800" spc="-1" strike="noStrike">
              <a:solidFill>
                <a:srgbClr val="003366"/>
              </a:solidFill>
              <a:latin typeface="Times New Roman"/>
            </a:endParaRPr>
          </a:p>
          <a:p>
            <a:pPr lvl="2" marL="1119960" indent="-223920">
              <a:lnSpc>
                <a:spcPct val="90000"/>
              </a:lnSpc>
              <a:spcBef>
                <a:spcPts val="60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119960" indent="-223920">
              <a:lnSpc>
                <a:spcPct val="90000"/>
              </a:lnSpc>
              <a:spcBef>
                <a:spcPts val="60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5880" indent="-335880">
              <a:lnSpc>
                <a:spcPct val="9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A881-3E36-496C-929B-742F37B92566}"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62">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62">
                                            <p:txEl>
                                              <p:pRg st="4" end="4"/>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62">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62">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hallenges to Victim Credibility</a:t>
            </a:r>
            <a:endParaRPr b="0" lang="en-US" sz="4000" spc="-1" strike="noStrike">
              <a:solidFill>
                <a:srgbClr val="003366"/>
              </a:solidFill>
              <a:latin typeface="Arial"/>
            </a:endParaRPr>
          </a:p>
        </p:txBody>
      </p:sp>
      <p:sp>
        <p:nvSpPr>
          <p:cNvPr id="265" name=""/>
          <p:cNvSpPr txBox="1"/>
          <p:nvPr/>
        </p:nvSpPr>
        <p:spPr>
          <a:xfrm>
            <a:off x="38088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Overcoming the Challenge of </a:t>
            </a:r>
            <a:endParaRPr b="0" lang="en-US" sz="2800" spc="-1" strike="noStrike">
              <a:solidFill>
                <a:srgbClr val="003366"/>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elayed</a:t>
            </a:r>
            <a:r>
              <a:rPr b="1" lang="en-US" sz="2800" spc="-1" strike="noStrike">
                <a:solidFill>
                  <a:srgbClr val="99ccff"/>
                </a:solidFill>
                <a:latin typeface="Times New Roman"/>
              </a:rPr>
              <a:t> </a:t>
            </a:r>
            <a:r>
              <a:rPr b="1" lang="en-US" sz="2800" spc="-1" strike="noStrike">
                <a:solidFill>
                  <a:srgbClr val="003366"/>
                </a:solidFill>
                <a:latin typeface="Times New Roman"/>
              </a:rPr>
              <a:t>Reporting</a:t>
            </a:r>
            <a:endParaRPr b="0" lang="en-US" sz="2800" spc="-1" strike="noStrike">
              <a:solidFill>
                <a:srgbClr val="003366"/>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licit from the victim, through open-ended prompts, her thoughts and actions after the assault</a:t>
            </a:r>
            <a:endParaRPr b="0" lang="en-US" sz="2800" spc="-1" strike="noStrike">
              <a:solidFill>
                <a:srgbClr val="0033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terview anyone the victim told about the assault to corroborate the explanation for the delayed report; view any electronic messages</a:t>
            </a:r>
            <a:endParaRPr b="0" lang="en-US" sz="2800" spc="-1" strike="noStrike">
              <a:solidFill>
                <a:srgbClr val="0033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7A4A-A0C2-4F73-9D9F-8069AFCF5297}"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33520" y="76320"/>
            <a:ext cx="8030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hallenges to Victim Credibility</a:t>
            </a:r>
            <a:endParaRPr b="0" lang="en-US" sz="4000" spc="-1" strike="noStrike">
              <a:solidFill>
                <a:srgbClr val="003366"/>
              </a:solidFill>
              <a:latin typeface="Arial"/>
            </a:endParaRPr>
          </a:p>
        </p:txBody>
      </p:sp>
      <p:sp>
        <p:nvSpPr>
          <p:cNvPr id="268" name=""/>
          <p:cNvSpPr txBox="1"/>
          <p:nvPr/>
        </p:nvSpPr>
        <p:spPr>
          <a:xfrm>
            <a:off x="457200" y="1523520"/>
            <a:ext cx="8229600" cy="480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consistent or Untrue Statements</a:t>
            </a:r>
            <a:endParaRPr b="0" lang="en-US" sz="3200" spc="-1" strike="noStrike">
              <a:solidFill>
                <a:srgbClr val="0033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would a victim make an untrue or inconsistent statement?</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rauma and disorganization</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iscomfort with the sexual detail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riminal activity preceding the assault</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ear of doubt or blame</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ncomfortable/ embarrassing elements</a:t>
            </a:r>
            <a:endParaRPr b="0" lang="en-US" sz="2800" spc="-1" strike="noStrike">
              <a:solidFill>
                <a:srgbClr val="003366"/>
              </a:solidFill>
              <a:latin typeface="Times New Roman"/>
            </a:endParaRPr>
          </a:p>
        </p:txBody>
      </p:sp>
      <p:sp>
        <p:nvSpPr>
          <p:cNvPr id="2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C53B-1F5F-4397-97F6-822E668C3A71}" type="slidenum">
              <a:rPr b="0" lang="en-US" sz="1200" spc="-1" strike="noStrike">
                <a:solidFill>
                  <a:srgbClr val="3f3f3f"/>
                </a:solidFill>
                <a:latin typeface="Arial"/>
                <a:ea typeface="MS PGothic"/>
              </a:rPr>
              <a:t>&lt;number&gt;</a:t>
            </a:fld>
            <a:endParaRPr b="0" lang="en-US" sz="1200" spc="-1" strike="noStrike">
              <a:solidFill>
                <a:srgbClr val="00336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68">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8">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68">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68">
                                            <p:txEl>
                                              <p:pRg st="6" end="6"/>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uma and Disorganization</a:t>
            </a:r>
            <a:endParaRPr b="0" lang="en-US" sz="4400" spc="-1" strike="noStrike">
              <a:solidFill>
                <a:srgbClr val="003366"/>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10000"/>
              </a:lnSpc>
              <a:spcBef>
                <a:spcPts val="799"/>
              </a:spcBef>
              <a:spcAft>
                <a:spcPts val="1199"/>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t>
            </a:r>
            <a:r>
              <a:rPr b="0" lang="en-US" sz="3200" spc="-1" strike="noStrike">
                <a:solidFill>
                  <a:srgbClr val="003366"/>
                </a:solidFill>
                <a:latin typeface="Times New Roman"/>
              </a:rPr>
              <a:t>Critical incident amnesia” experienced by law enforcement professionals in trauma.</a:t>
            </a:r>
            <a:endParaRPr b="0" lang="en-US" sz="3200" spc="-1" strike="noStrike">
              <a:solidFill>
                <a:srgbClr val="003366"/>
              </a:solidFill>
              <a:latin typeface="Times New Roman"/>
            </a:endParaRPr>
          </a:p>
          <a:p>
            <a:pPr lvl="1" marL="720720" indent="-277200">
              <a:lnSpc>
                <a:spcPct val="110000"/>
              </a:lnSpc>
              <a:spcBef>
                <a:spcPts val="700"/>
              </a:spcBef>
              <a:spcAft>
                <a:spcPts val="1199"/>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r>
              <a:rPr b="0" lang="en-US" sz="2800" spc="-1" strike="noStrike">
                <a:solidFill>
                  <a:srgbClr val="003366"/>
                </a:solidFill>
                <a:latin typeface="Times New Roman"/>
              </a:rPr>
              <a:t>This temporary amnesia will affect both the officer’s memory and the officer’s ability to write an incident report.”</a:t>
            </a: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20720" indent="-2772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20720" indent="-277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PCT Management Systems, Inc. (1989)</a:t>
            </a:r>
            <a:endParaRPr b="0" lang="en-US" sz="1800" spc="-1" strike="noStrike">
              <a:solidFill>
                <a:srgbClr val="003366"/>
              </a:solidFill>
              <a:latin typeface="Times New Roman"/>
            </a:endParaRPr>
          </a:p>
          <a:p>
            <a:pPr lvl="1" marL="720720" indent="-277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Use of Force Human Factors (Chapter 1)</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837720"/>
            <a:ext cx="8229600" cy="5288040"/>
          </a:xfrm>
          <a:prstGeom prst="rect">
            <a:avLst/>
          </a:prstGeom>
          <a:noFill/>
          <a:ln w="0">
            <a:noFill/>
          </a:ln>
        </p:spPr>
        <p:txBody>
          <a:bodyPr anchor="t">
            <a:normAutofit/>
          </a:bodyPr>
          <a:p>
            <a:pPr marL="343080" indent="-343080">
              <a:lnSpc>
                <a:spcPct val="11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ritical Incident Amnesia</a:t>
            </a:r>
            <a:endParaRPr b="0" lang="en-US" sz="3200" spc="-1" strike="noStrike">
              <a:solidFill>
                <a:srgbClr val="003366"/>
              </a:solidFill>
              <a:latin typeface="Times New Roman"/>
            </a:endParaRPr>
          </a:p>
          <a:p>
            <a:pPr lvl="1" marL="743040" indent="-285840">
              <a:lnSpc>
                <a:spcPct val="11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erceptual narrowing occurs when an individual “tunes into” the input from one of the five senses (e.g., tunnel vision)</a:t>
            </a:r>
            <a:endParaRPr b="0" lang="en-US" sz="2800" spc="-1" strike="noStrike">
              <a:solidFill>
                <a:srgbClr val="003366"/>
              </a:solidFill>
              <a:latin typeface="Times New Roman"/>
            </a:endParaRPr>
          </a:p>
          <a:p>
            <a:pPr lvl="1" marL="743040" indent="-285840">
              <a:lnSpc>
                <a:spcPct val="11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oss of cognitive and motor skills</a:t>
            </a:r>
            <a:endParaRPr b="0" lang="en-US" sz="2800" spc="-1" strike="noStrike">
              <a:solidFill>
                <a:srgbClr val="003366"/>
              </a:solidFill>
              <a:latin typeface="Times New Roman"/>
            </a:endParaRPr>
          </a:p>
          <a:p>
            <a:pPr lvl="2" marL="1143000" indent="-228600">
              <a:lnSpc>
                <a:spcPct val="110000"/>
              </a:lnSpc>
              <a:spcBef>
                <a:spcPts val="60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creased ability to concentrate</a:t>
            </a:r>
            <a:endParaRPr b="0" lang="en-US" sz="2400" spc="-1" strike="noStrike">
              <a:solidFill>
                <a:srgbClr val="003366"/>
              </a:solidFill>
              <a:latin typeface="Times New Roman"/>
            </a:endParaRPr>
          </a:p>
          <a:p>
            <a:pPr lvl="2" marL="1143000" indent="-228600">
              <a:lnSpc>
                <a:spcPct val="110000"/>
              </a:lnSpc>
              <a:spcBef>
                <a:spcPts val="601"/>
              </a:spcBef>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rrational decision-making</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overy</a:t>
            </a:r>
            <a:endParaRPr b="0" lang="en-US" sz="4400" spc="-1" strike="noStrike">
              <a:solidFill>
                <a:srgbClr val="003366"/>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ime necessary to recover memory</a:t>
            </a:r>
            <a:endParaRPr b="0" lang="en-US" sz="3200" spc="-1" strike="noStrike">
              <a:solidFill>
                <a:srgbClr val="003366"/>
              </a:solidFill>
              <a:latin typeface="Times New Roman"/>
            </a:endParaRPr>
          </a:p>
          <a:p>
            <a:pPr lvl="1" marL="743040" indent="-285840">
              <a:lnSpc>
                <a:spcPct val="11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efore first sleep cycle - general info</a:t>
            </a:r>
            <a:endParaRPr b="0" lang="en-US" sz="2800" spc="-1" strike="noStrike">
              <a:solidFill>
                <a:srgbClr val="003366"/>
              </a:solidFill>
              <a:latin typeface="Times New Roman"/>
            </a:endParaRPr>
          </a:p>
          <a:p>
            <a:pPr lvl="1" marL="743040" indent="-285840">
              <a:lnSpc>
                <a:spcPct val="11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fter first sleep period - +50% - 90%</a:t>
            </a:r>
            <a:endParaRPr b="0" lang="en-US" sz="2800" spc="-1" strike="noStrike">
              <a:solidFill>
                <a:srgbClr val="003366"/>
              </a:solidFill>
              <a:latin typeface="Times New Roman"/>
            </a:endParaRPr>
          </a:p>
          <a:p>
            <a:pPr lvl="1" marL="743040" indent="-285840">
              <a:lnSpc>
                <a:spcPct val="110000"/>
              </a:lnSpc>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sleep cycle – 100%</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views and Reports</a:t>
            </a:r>
            <a:endParaRPr b="0" lang="en-US" sz="4400" spc="-1" strike="noStrike">
              <a:solidFill>
                <a:srgbClr val="003366"/>
              </a:solidFill>
              <a:latin typeface="Arial"/>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reliminary report</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Verbal </a:t>
            </a: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upplemental repor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nal report </a:t>
            </a:r>
            <a:endParaRPr b="0" lang="en-US" sz="32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Victim Interviewing Exercise II</a:t>
            </a:r>
            <a:endParaRPr b="0" lang="en-US" sz="4000" spc="-1" strike="noStrike">
              <a:solidFill>
                <a:srgbClr val="003366"/>
              </a:solidFill>
              <a:latin typeface="Arial"/>
            </a:endParaRPr>
          </a:p>
        </p:txBody>
      </p:sp>
      <p:sp>
        <p:nvSpPr>
          <p:cNvPr id="278" name=""/>
          <p:cNvSpPr txBox="1"/>
          <p:nvPr/>
        </p:nvSpPr>
        <p:spPr>
          <a:xfrm>
            <a:off x="457200" y="1904760"/>
            <a:ext cx="8229600" cy="419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Overcoming challenges to victim credibility</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this exercise, please identify the credibility issues that will likely surface in the Brown complaint and what you would do to overcome those challenges</a:t>
            </a:r>
            <a:endParaRPr b="0" lang="en-US" sz="3200" spc="-1" strike="noStrike">
              <a:solidFill>
                <a:srgbClr val="003366"/>
              </a:solidFill>
              <a:latin typeface="Times New Roman"/>
            </a:endParaRPr>
          </a:p>
        </p:txBody>
      </p:sp>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7E99-B99B-4A5B-BB3A-F8A7A858EC4B}" type="slidenum">
              <a:rPr b="0" lang="en-US" sz="1200" spc="-1" strike="noStrike">
                <a:solidFill>
                  <a:srgbClr val="ffffff"/>
                </a:solidFill>
                <a:latin typeface="Arial"/>
                <a:ea typeface="MS PGothic"/>
              </a:rPr>
              <a:t>&lt;number&gt;</a:t>
            </a:fld>
            <a:endParaRPr b="0" lang="en-US" sz="1200" spc="-1" strike="noStrike">
              <a:solidFill>
                <a:srgbClr val="003366"/>
              </a:solidFill>
              <a:latin typeface="Arial"/>
            </a:endParaRPr>
          </a:p>
        </p:txBody>
      </p:sp>
      <p:pic>
        <p:nvPicPr>
          <p:cNvPr id="280" name="Picture 4" descr="Question%20marks.jpg"/>
          <p:cNvPicPr/>
          <p:nvPr/>
        </p:nvPicPr>
        <p:blipFill>
          <a:blip r:embed="rId1"/>
          <a:stretch/>
        </p:blipFill>
        <p:spPr>
          <a:xfrm>
            <a:off x="6394320" y="4565520"/>
            <a:ext cx="2438640" cy="197496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vidence Collection</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300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manda Brown Sexual Assault Complaint Summary</a:t>
            </a:r>
            <a:endParaRPr b="0" lang="en-US" sz="4400" spc="-1" strike="noStrike">
              <a:solidFill>
                <a:srgbClr val="00336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vidence from the Victim</a:t>
            </a:r>
            <a:endParaRPr b="0" lang="en-US" sz="4400" spc="-1" strike="noStrike">
              <a:solidFill>
                <a:srgbClr val="003366"/>
              </a:solidFill>
              <a:latin typeface="Arial"/>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ensic medical examination</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Up to 96 hours</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V Sex Crime Evidence Collection Kit</a:t>
            </a:r>
            <a:endParaRPr b="0" lang="en-US" sz="28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hysician or trained SANE</a:t>
            </a:r>
            <a:endParaRPr b="0" lang="en-US" sz="28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743040" indent="-2858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See pages 50-53 in the WV Protocol)</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port to Law Enforcement</a:t>
            </a:r>
            <a:endParaRPr b="0" lang="en-US" sz="4400" spc="-1" strike="noStrike">
              <a:solidFill>
                <a:srgbClr val="003366"/>
              </a:solidFill>
              <a:latin typeface="Arial"/>
            </a:endParaRPr>
          </a:p>
        </p:txBody>
      </p:sp>
      <p:sp>
        <p:nvSpPr>
          <p:cNvPr id="285" name=""/>
          <p:cNvSpPr txBox="1"/>
          <p:nvPr/>
        </p:nvSpPr>
        <p:spPr>
          <a:xfrm>
            <a:off x="457200" y="1600200"/>
            <a:ext cx="8229600" cy="4525920"/>
          </a:xfrm>
          <a:prstGeom prst="rect">
            <a:avLst/>
          </a:prstGeom>
          <a:noFill/>
          <a:ln w="0">
            <a:noFill/>
          </a:ln>
        </p:spPr>
        <p:txBody>
          <a:bodyPr anchor="t">
            <a:normAutofit/>
          </a:bodyPr>
          <a:p>
            <a:pPr lvl="1" marL="457200" indent="-3348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nsure advocacy services have been offered</a:t>
            </a:r>
            <a:endParaRPr b="0" lang="en-US" sz="2800" spc="-1" strike="noStrike">
              <a:solidFill>
                <a:srgbClr val="003366"/>
              </a:solidFill>
              <a:latin typeface="Times New Roman"/>
            </a:endParaRPr>
          </a:p>
          <a:p>
            <a:pPr lvl="1" marL="457200" indent="-3348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pond to hospital for initial interview</a:t>
            </a:r>
            <a:endParaRPr b="0" lang="en-US" sz="2800" spc="-1" strike="noStrike">
              <a:solidFill>
                <a:srgbClr val="003366"/>
              </a:solidFill>
              <a:latin typeface="Times New Roman"/>
            </a:endParaRPr>
          </a:p>
          <a:p>
            <a:pPr lvl="1" marL="457200" indent="-3348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ick up sex crime evidence collection kit, following chain of custody</a:t>
            </a:r>
            <a:endParaRPr b="0" lang="en-US" sz="2800" spc="-1" strike="noStrike">
              <a:solidFill>
                <a:srgbClr val="003366"/>
              </a:solidFill>
              <a:latin typeface="Times New Roman"/>
            </a:endParaRPr>
          </a:p>
          <a:p>
            <a:pPr lvl="1" marL="457200" indent="-3348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nd kit to WVSP Lab</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on-Reports</a:t>
            </a:r>
            <a:endParaRPr b="0" lang="en-US" sz="4400" spc="-1" strike="noStrike">
              <a:solidFill>
                <a:srgbClr val="003366"/>
              </a:solidFill>
              <a:latin typeface="Arial"/>
            </a:endParaRPr>
          </a:p>
        </p:txBody>
      </p:sp>
      <p:sp>
        <p:nvSpPr>
          <p:cNvPr id="287"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ensic Medical Exam Fund: WV Code §61-8B-16(5c)—States that a victim of sexual assault is NOT required to participate in the criminal justice system or cooperate with law enforcement in order to have a forensic medical exam.</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D send kit to Marshall University, maintaining chain of custody</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Kit stored up to 18 months</a:t>
            </a:r>
            <a:endParaRPr b="0" lang="en-US" sz="2800" spc="-1" strike="noStrike">
              <a:solidFill>
                <a:srgbClr val="003366"/>
              </a:solidFill>
              <a:latin typeface="Times New Roman"/>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See page 43 of WV Protocol for handling non-reports)</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3366"/>
                </a:solidFill>
                <a:latin typeface="Arial"/>
              </a:rPr>
              <a:t>The purpose of an investigative interview is to:</a:t>
            </a:r>
            <a:br>
              <a:rPr sz="3600"/>
            </a:br>
            <a:endParaRPr b="0" lang="en-US" sz="3600" spc="-1" strike="noStrike">
              <a:solidFill>
                <a:srgbClr val="003366"/>
              </a:solidFill>
              <a:latin typeface="Arial"/>
            </a:endParaRPr>
          </a:p>
        </p:txBody>
      </p:sp>
      <p:sp>
        <p:nvSpPr>
          <p:cNvPr id="289" name=""/>
          <p:cNvSpPr txBox="1"/>
          <p:nvPr/>
        </p:nvSpPr>
        <p:spPr>
          <a:xfrm>
            <a:off x="533520" y="2057400"/>
            <a:ext cx="8229600" cy="4525920"/>
          </a:xfrm>
          <a:prstGeom prst="rect">
            <a:avLst/>
          </a:prstGeom>
          <a:noFill/>
          <a:ln w="0">
            <a:noFill/>
          </a:ln>
        </p:spPr>
        <p:txBody>
          <a:bodyPr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btain the sexual assault history; and</a:t>
            </a:r>
            <a:endParaRPr b="0" lang="en-US" sz="2800" spc="-1" strike="noStrike">
              <a:solidFill>
                <a:srgbClr val="003366"/>
              </a:solidFill>
              <a:latin typeface="Times New Roman"/>
            </a:endParaRPr>
          </a:p>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btain a detailed description of the events (e.g. who, when, what, where, and how).</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Arial"/>
              </a:rPr>
              <a:t>The purpose of a medical interview is to:</a:t>
            </a:r>
            <a:br>
              <a:rPr sz="3400"/>
            </a:br>
            <a:endParaRPr b="0" lang="en-US" sz="3400" spc="-1" strike="noStrike">
              <a:solidFill>
                <a:srgbClr val="003366"/>
              </a:solidFill>
              <a:latin typeface="Arial"/>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btain information about what sexual acts were committed to collect biological evidence sampl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btain information about physical injuries to document use of physical forc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etermine whether findings are consistent, and to provide this information to law enforcement officer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ypes of Forensic Evidence</a:t>
            </a:r>
            <a:endParaRPr b="0" lang="en-US" sz="4400" spc="-1" strike="noStrike">
              <a:solidFill>
                <a:srgbClr val="003366"/>
              </a:solidFill>
              <a:latin typeface="Arial"/>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DNA</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air</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minal</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othing</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aliva</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lood</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Non-biological evidenc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hysical Injuries</a:t>
            </a:r>
            <a:endParaRPr b="0" lang="en-US" sz="4400" spc="-1" strike="noStrike">
              <a:solidFill>
                <a:srgbClr val="003366"/>
              </a:solidFill>
              <a:latin typeface="Arial"/>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majority of victims will not sustain genital injuri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ery few will have major non-genital injuries</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bsence of injury should NOT be interpreted as consen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videntiary Consistency</a:t>
            </a:r>
            <a:endParaRPr b="0" lang="en-US" sz="4400" spc="-1" strike="noStrike">
              <a:solidFill>
                <a:srgbClr val="003366"/>
              </a:solidFill>
              <a:latin typeface="Arial"/>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arify any discrepancies in documentation</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Update crime scene personnel </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intain chain of custody</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intain evidence integrity </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tain Additional Evidence</a:t>
            </a:r>
            <a:endParaRPr b="0" lang="en-US" sz="4400" spc="-1" strike="noStrike">
              <a:solidFill>
                <a:srgbClr val="003366"/>
              </a:solidFill>
              <a:latin typeface="Arial"/>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aluate need for search warrant</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dentify and collect potential evidenc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idence collection in a ‘consent’ cas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hotograph the crime scene</a:t>
            </a: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manda Brown Complaint</a:t>
            </a:r>
            <a:endParaRPr b="0" lang="en-US" sz="4400" spc="-1" strike="noStrike">
              <a:solidFill>
                <a:srgbClr val="003366"/>
              </a:solidFill>
              <a:latin typeface="Arial"/>
            </a:endParaRPr>
          </a:p>
        </p:txBody>
      </p:sp>
      <p:sp>
        <p:nvSpPr>
          <p:cNvPr id="301" name=""/>
          <p:cNvSpPr txBox="1"/>
          <p:nvPr/>
        </p:nvSpPr>
        <p:spPr>
          <a:xfrm>
            <a:off x="457200" y="1600200"/>
            <a:ext cx="8229600" cy="45259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Times New Roman"/>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Evidence Collection and Use Exercise </a:t>
            </a:r>
            <a:endParaRPr b="0" lang="en-US" sz="3400" spc="-1" strike="noStrike">
              <a:solidFill>
                <a:srgbClr val="003366"/>
              </a:solidFill>
              <a:latin typeface="Times New Roman"/>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304920"/>
            <a:ext cx="7162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d"/>
                </a:solidFill>
                <a:latin typeface="Arial"/>
              </a:rPr>
              <a:t>Dynamics Exercise I</a:t>
            </a:r>
            <a:endParaRPr b="0" lang="en-US" sz="4000" spc="-1" strike="noStrike">
              <a:solidFill>
                <a:srgbClr val="003366"/>
              </a:solidFill>
              <a:latin typeface="Arial"/>
            </a:endParaRPr>
          </a:p>
        </p:txBody>
      </p:sp>
      <p:sp>
        <p:nvSpPr>
          <p:cNvPr id="106" name=""/>
          <p:cNvSpPr txBox="1"/>
          <p:nvPr/>
        </p:nvSpPr>
        <p:spPr>
          <a:xfrm>
            <a:off x="380880" y="1752480"/>
            <a:ext cx="8229600" cy="4572000"/>
          </a:xfrm>
          <a:prstGeom prst="rect">
            <a:avLst/>
          </a:prstGeom>
          <a:noFill/>
          <a:ln w="0">
            <a:noFill/>
          </a:ln>
        </p:spPr>
        <p:txBody>
          <a:bodyPr anchor="t">
            <a:normAutofit/>
          </a:bodyPr>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Do you think this case should be investigated further based on the complaint?  Why or why not?</a:t>
            </a: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s Amanda Brown </a:t>
            </a:r>
            <a:r>
              <a:rPr b="0" i="1" lang="en-US" sz="2800" spc="-1" strike="noStrike">
                <a:solidFill>
                  <a:srgbClr val="003366"/>
                </a:solidFill>
                <a:latin typeface="Times New Roman"/>
              </a:rPr>
              <a:t>accessible, vulnerable and/or lacking in credibility? </a:t>
            </a:r>
            <a:r>
              <a:rPr b="0" lang="en-US" sz="2800" spc="-1" strike="noStrike">
                <a:solidFill>
                  <a:srgbClr val="003366"/>
                </a:solidFill>
                <a:latin typeface="Times New Roman"/>
              </a:rPr>
              <a:t>Explain.</a:t>
            </a: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ow would you characterize Michael Cates?</a:t>
            </a: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at crimes are involved?</a:t>
            </a:r>
            <a:endParaRPr b="0" lang="en-US" sz="2800" spc="-1" strike="noStrike">
              <a:solidFill>
                <a:srgbClr val="003366"/>
              </a:solidFill>
              <a:latin typeface="Times New Roman"/>
            </a:endParaRPr>
          </a:p>
          <a:p>
            <a:pPr marL="609480" indent="-609480">
              <a:lnSpc>
                <a:spcPct val="90000"/>
              </a:lnSpc>
              <a:spcBef>
                <a:spcPts val="799"/>
              </a:spcBef>
              <a:buClr>
                <a:srgbClr val="003366"/>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107" name="Picture 4" descr="Question%20marks.jpg"/>
          <p:cNvPicPr/>
          <p:nvPr/>
        </p:nvPicPr>
        <p:blipFill>
          <a:blip r:embed="rId1"/>
          <a:stretch/>
        </p:blipFill>
        <p:spPr>
          <a:xfrm>
            <a:off x="6242040" y="4950000"/>
            <a:ext cx="2060640" cy="16700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xual Assault Response Team</a:t>
            </a:r>
            <a:endParaRPr b="0" lang="en-US" sz="4400" spc="-1" strike="noStrike">
              <a:solidFill>
                <a:srgbClr val="003366"/>
              </a:solidFill>
              <a:latin typeface="Arial"/>
            </a:endParaRPr>
          </a:p>
        </p:txBody>
      </p:sp>
      <p:sp>
        <p:nvSpPr>
          <p:cNvPr id="303" name=""/>
          <p:cNvSpPr txBox="1"/>
          <p:nvPr/>
        </p:nvSpPr>
        <p:spPr>
          <a:xfrm>
            <a:off x="457200" y="1600200"/>
            <a:ext cx="8229600" cy="4525920"/>
          </a:xfrm>
          <a:prstGeom prst="rect">
            <a:avLst/>
          </a:prstGeom>
          <a:noFill/>
          <a:ln w="0">
            <a:noFill/>
          </a:ln>
        </p:spPr>
        <p:txBody>
          <a:bodyPr anchor="t">
            <a:normAutofit/>
          </a:bodyPr>
          <a:p>
            <a:pPr lvl="1"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imes New Roman"/>
              </a:rPr>
              <a:t>A multidisciplinary approach to provide timely, compassionate, quality support for a victim of sexual assault to facilitate the arrest, prosecution and conviction of the offender.</a:t>
            </a:r>
            <a:endParaRPr b="0" lang="en-US" sz="3200" spc="-1" strike="noStrike">
              <a:solidFill>
                <a:srgbClr val="003366"/>
              </a:solidFill>
              <a:latin typeface="Times New Roman"/>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Serves on a SART?</a:t>
            </a:r>
            <a:endParaRPr b="0" lang="en-US" sz="4400" spc="-1" strike="noStrike">
              <a:solidFill>
                <a:srgbClr val="003366"/>
              </a:solidFill>
              <a:latin typeface="Arial"/>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Advocates</a:t>
            </a:r>
            <a:endParaRPr b="0" lang="en-US" sz="2700" spc="-1" strike="noStrike">
              <a:solidFill>
                <a:srgbClr val="003366"/>
              </a:solidFill>
              <a:latin typeface="Times New Roman"/>
            </a:endParaRPr>
          </a:p>
          <a:p>
            <a:pPr marL="343080" indent="-343080">
              <a:lnSpc>
                <a:spcPct val="80000"/>
              </a:lnSpc>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Law enforcement</a:t>
            </a:r>
            <a:endParaRPr b="0" lang="en-US" sz="2700" spc="-1" strike="noStrike">
              <a:solidFill>
                <a:srgbClr val="003366"/>
              </a:solidFill>
              <a:latin typeface="Times New Roman"/>
            </a:endParaRPr>
          </a:p>
          <a:p>
            <a:pPr marL="343080" indent="-343080">
              <a:lnSpc>
                <a:spcPct val="80000"/>
              </a:lnSpc>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Forensic examiners/SANEs</a:t>
            </a:r>
            <a:endParaRPr b="0" lang="en-US" sz="2700" spc="-1" strike="noStrike">
              <a:solidFill>
                <a:srgbClr val="003366"/>
              </a:solidFill>
              <a:latin typeface="Times New Roman"/>
            </a:endParaRPr>
          </a:p>
          <a:p>
            <a:pPr marL="343080" indent="-343080">
              <a:lnSpc>
                <a:spcPct val="80000"/>
              </a:lnSpc>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Prosecutors</a:t>
            </a:r>
            <a:endParaRPr b="0" lang="en-US" sz="2700" spc="-1" strike="noStrike">
              <a:solidFill>
                <a:srgbClr val="003366"/>
              </a:solidFill>
              <a:latin typeface="Times New Roman"/>
            </a:endParaRPr>
          </a:p>
          <a:p>
            <a:pPr marL="343080" indent="-343080">
              <a:lnSpc>
                <a:spcPct val="80000"/>
              </a:lnSpc>
              <a:spcBef>
                <a:spcPts val="67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Times New Roman"/>
              </a:rPr>
              <a:t>Other:</a:t>
            </a:r>
            <a:endParaRPr b="0" lang="en-US" sz="27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MS</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mpuses</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ublic health</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ental health</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aith-based</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ocial services – including underserved populations</a:t>
            </a:r>
            <a:endParaRPr b="0" lang="en-US" sz="2400" spc="-1" strike="noStrike">
              <a:solidFill>
                <a:srgbClr val="003366"/>
              </a:solidFill>
              <a:latin typeface="Times New Roman"/>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ordinated Campus Response </a:t>
            </a:r>
            <a:endParaRPr b="0" lang="en-US" sz="4400" spc="-1" strike="noStrike">
              <a:solidFill>
                <a:srgbClr val="003366"/>
              </a:solidFill>
              <a:latin typeface="Arial"/>
            </a:endParaRPr>
          </a:p>
        </p:txBody>
      </p:sp>
      <p:sp>
        <p:nvSpPr>
          <p:cNvPr id="307" name=""/>
          <p:cNvSpPr txBox="1"/>
          <p:nvPr/>
        </p:nvSpPr>
        <p:spPr>
          <a:xfrm>
            <a:off x="457200" y="1523880"/>
            <a:ext cx="8229600" cy="5105520"/>
          </a:xfrm>
          <a:prstGeom prst="rect">
            <a:avLst/>
          </a:prstGeom>
          <a:noFill/>
          <a:ln w="0">
            <a:noFill/>
          </a:ln>
        </p:spPr>
        <p:txBody>
          <a:bodyPr anchor="t">
            <a:normAutofit/>
          </a:bodyPr>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President</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Students affairs administrator</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Student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Clergy</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Title IX Coordinators and Clery Act Compliance Officer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ctim services and prevention program provider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Campus law enforcement or Department of Public Safety</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Student Health</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Campus housing authoritie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Campus disciplinary and judicial board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Hearing officers</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Faculty, staff and administrators, etc.</a:t>
            </a:r>
            <a:endParaRPr b="0" lang="en-US" sz="2600" spc="-1" strike="noStrike">
              <a:solidFill>
                <a:srgbClr val="003366"/>
              </a:solidFill>
              <a:latin typeface="Times New Roman"/>
            </a:endParaRPr>
          </a:p>
          <a:p>
            <a:pPr marL="343080" indent="-343080">
              <a:lnSpc>
                <a:spcPct val="80000"/>
              </a:lnSpc>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3366"/>
                </a:solidFill>
                <a:latin typeface="Arial"/>
              </a:rPr>
              <a:t>Why a Coordinated Response?</a:t>
            </a:r>
            <a:endParaRPr b="0" lang="en-US" sz="4400" spc="-1" strike="noStrike">
              <a:solidFill>
                <a:srgbClr val="003366"/>
              </a:solidFill>
              <a:latin typeface="Arial"/>
            </a:endParaRPr>
          </a:p>
        </p:txBody>
      </p:sp>
      <p:sp>
        <p:nvSpPr>
          <p:cNvPr id="309" name="PlaceHolder 2"/>
          <p:cNvSpPr>
            <a:spLocks noGrp="1"/>
          </p:cNvSpPr>
          <p:nvPr>
            <p:ph/>
          </p:nvPr>
        </p:nvSpPr>
        <p:spPr>
          <a:xfrm>
            <a:off x="380880" y="1600200"/>
            <a:ext cx="8382240" cy="5043600"/>
          </a:xfrm>
          <a:prstGeom prst="rect">
            <a:avLst/>
          </a:prstGeom>
          <a:noFill/>
          <a:ln w="0">
            <a:noFill/>
          </a:ln>
        </p:spPr>
        <p:txBody>
          <a:bodyPr anchor="t">
            <a:normAutofit/>
          </a:bodyPr>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Understand unique role of individual responders</a:t>
            </a:r>
            <a:endParaRPr b="0" lang="en-US" sz="3000" spc="-1" strike="noStrike">
              <a:solidFill>
                <a:srgbClr val="003366"/>
              </a:solidFill>
              <a:latin typeface="Times New Roman"/>
            </a:endParaRPr>
          </a:p>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Understand policies and practices</a:t>
            </a:r>
            <a:endParaRPr b="0" lang="en-US" sz="3000" spc="-1" strike="noStrike">
              <a:solidFill>
                <a:srgbClr val="003366"/>
              </a:solidFill>
              <a:latin typeface="Times New Roman"/>
            </a:endParaRPr>
          </a:p>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Increase communication</a:t>
            </a:r>
            <a:endParaRPr b="0" lang="en-US" sz="3000" spc="-1" strike="noStrike">
              <a:solidFill>
                <a:srgbClr val="003366"/>
              </a:solidFill>
              <a:latin typeface="Times New Roman"/>
            </a:endParaRPr>
          </a:p>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Encourage communication within and among agencies/departments</a:t>
            </a:r>
            <a:endParaRPr b="0" lang="en-US" sz="3000" spc="-1" strike="noStrike">
              <a:solidFill>
                <a:srgbClr val="003366"/>
              </a:solidFill>
              <a:latin typeface="Times New Roman"/>
            </a:endParaRPr>
          </a:p>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Share resources, updated information, training opportunities</a:t>
            </a:r>
            <a:endParaRPr b="0" lang="en-US" sz="3000" spc="-1" strike="noStrike">
              <a:solidFill>
                <a:srgbClr val="003366"/>
              </a:solidFill>
              <a:latin typeface="Times New Roman"/>
            </a:endParaRPr>
          </a:p>
          <a:p>
            <a:pPr marL="457200" indent="-457200">
              <a:lnSpc>
                <a:spcPct val="90000"/>
              </a:lnSpc>
              <a:spcBef>
                <a:spcPts val="751"/>
              </a:spcBef>
              <a:buClr>
                <a:srgbClr val="0101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24568"/>
                </a:solidFill>
                <a:latin typeface="Times New Roman"/>
              </a:rPr>
              <a:t>Identify training needs</a:t>
            </a:r>
            <a:endParaRPr b="0" lang="en-US" sz="30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re our goals similar?</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Where do our goals intersect?  Are the paths we take to get there the same?</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Where and what are the major areas of conflict between the professions?</a:t>
            </a: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343080">
              <a:spcBef>
                <a:spcPts val="6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How do we come together to achieve similar goals?</a:t>
            </a:r>
            <a:endParaRPr b="0" lang="en-US" sz="2600" spc="-1" strike="noStrike">
              <a:solidFill>
                <a:srgbClr val="003366"/>
              </a:solidFill>
              <a:latin typeface="Times New Roman"/>
            </a:endParaRPr>
          </a:p>
        </p:txBody>
      </p:sp>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estions to Consider</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dditional Resources</a:t>
            </a:r>
            <a:endParaRPr b="0" lang="en-US" sz="4400" spc="-1" strike="noStrike">
              <a:solidFill>
                <a:srgbClr val="003366"/>
              </a:solidFill>
              <a:latin typeface="Arial"/>
            </a:endParaRPr>
          </a:p>
        </p:txBody>
      </p:sp>
      <p:sp>
        <p:nvSpPr>
          <p:cNvPr id="313"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V FRIS @ www.fris.org</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ART Resource Guide and WV Protocol </a:t>
            </a: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equitas @ www.aequitasresource.org </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Multidisciplinary resources on investigation and prosecution</a:t>
            </a: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AWI @ www.evawintl.org </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ree online training academy</a:t>
            </a: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ACP @ www.iacp.org</a:t>
            </a:r>
            <a:endParaRPr b="0" lang="en-US" sz="3200" spc="-1" strike="noStrike">
              <a:solidFill>
                <a:srgbClr val="003366"/>
              </a:solidFill>
              <a:latin typeface="Times New Roman"/>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pplemental forms</a:t>
            </a:r>
            <a:endParaRPr b="0" lang="en-US" sz="2800" spc="-1" strike="noStrike">
              <a:solidFill>
                <a:srgbClr val="003366"/>
              </a:solidFill>
              <a:latin typeface="Times New Roman"/>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1T00:17:55Z</dcterms:created>
  <dc:creator>Brandi Nicole Godfrey</dc:creator>
  <dc:description/>
  <dc:language>en-US</dc:language>
  <cp:lastModifiedBy>Brandi Nicole Godfrey</cp:lastModifiedBy>
  <dcterms:modified xsi:type="dcterms:W3CDTF">2013-06-10T16:42:22Z</dcterms:modified>
  <cp:revision>377</cp:revision>
  <dc:subject/>
  <dc:title>Law Enforcement Response</dc:title>
</cp:coreProperties>
</file>